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971-A8DA-4BF9-9D33-5F56DDF9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EA5-8400-4CD7-A688-F4CDF5E1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5C2-0E6E-4496-B11A-23143F84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719-9591-4E9D-AF32-A5258040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C2B-9E59-4358-AD7B-27F59D12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714-B62A-47C1-B765-187B8BC7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689-50E6-4FCB-B770-4759CE17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CA1-D300-47D2-A37E-FCF64EA5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D3C-19D1-4DA6-958D-809E4FA0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8D8-8228-4709-90DA-58D40420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8F9-19DF-410F-BC6C-CF7334BB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6E0-0A62-4CFE-84FE-58DCCDAF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EB10-9A6C-4584-89FA-AB14862FD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щ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щ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био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Щука гиг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Нер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1294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ственный род особого семейства щуковых (Esocidae) из группы отверстопузырных рыб, представители которого населяют пресные воды Европы, Азии и Америки. Наиболее общеизвестный представитель рода - обыкновенная Щука  Тело удлиненное, почти цилиндрическое, покрыто мелкой чешуей, которая покрывает и верхнюю часть жаберной крышки. Голова сплющенная с выступающей вперед нижней челюстью. Рот вооружен очень сильно развитыми зубами. Спинной плавник сильно отодвинут кзади и приходится над подхвостовым. Цвет спины черноватый, бока серые или серовато-зеленые с желтоватыми пятнами и полосками; брюхо белое, обыкновенно с серыми пятнышками; непарные плавники бурые с черными пятнышками, парные желто-красные. Цвет сильно варьирует в зависимости от возраста и местопребы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4114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вое время молодые Щурята (Esox)  кормятся беспозвоночными и лишь с июля начинают ловить молодь других рыб. Щука   истребляет громадное количество рыбы, но сама является важным объектом лова; кроме того, истребляя значительное количество мелких, а также слабых и больных рыб, Щука   способствуют более успешному росту остальных особей, почему небольших щук нарочно селят напр., в карповых пру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76880" y="1844640"/>
            <a:ext cx="47671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Щука гиг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402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ольшая щука в истории была выловлена в 1497 году, при помощи невода. Хищница от времени и старости побелела и была покрыта водорослями. В длину она была 5,7 м, а ее масса 140 кг, ее приблизительный возраст 267 лет. Сразу появляется вопрос: «Откуда узнали, что эта щука столько прожила?». По легенде к щуке было прикреплено кольцо императора Фридриха II Штауфена. На кольце был отмечен 1230 год, это год в котором хищница была выпущена в озеро возле города Хейльбронн, Германия. В музее города Мангейм, Германия хранится скелет якобы этой щуки рекордсменки и кольц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2276640"/>
            <a:ext cx="403848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р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уки нерестятся, как правило, в конце марта - начале апреля в мелких закоряженных заливах, иногда в разливах поймы рек или оз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ест происходит в береговых закраинах в достаточно узкой полоске открытой воды, когда большая часть: водоема еще покрыта рыхлым льдом. Нерест в закрытых водоемах может наступить и позднее на 2-4 недели, в зависимости от таяния льда. После окончания нереста через 1,5-2 недели у щуки начинается ж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700360" y="3068640"/>
            <a:ext cx="5111640" cy="24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ё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06:18Z</dcterms:created>
  <dc:creator>Admin</dc:creator>
  <dc:description/>
  <dc:language>en-US</dc:language>
  <cp:lastModifiedBy>Игорь Борисович</cp:lastModifiedBy>
  <dcterms:modified xsi:type="dcterms:W3CDTF">2012-01-31T08:52:00Z</dcterms:modified>
  <cp:revision>5</cp:revision>
  <dc:subject/>
  <dc:title>щука</dc:title>
</cp:coreProperties>
</file>