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3B2-4667-4B8C-A514-7FD12014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2B7-192D-4499-AF9B-5E8D423A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6AC-A608-4E9A-B770-C4CCF2BC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838-6F30-4170-8C2F-F36D3269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A6D1-6EA1-4025-89DD-F373DDB4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5452-0DA0-4C4A-9F87-ADAFBDE9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A07D-98D6-464E-A44A-5EF7D7FD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1040-2563-4E01-A2E3-32038282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1A26-A292-4FD6-A5B9-7C64B878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9FA0-C308-44EF-B8F6-7F6118A5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80E1-C224-4B6C-A4C5-E8818B1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287-85B8-4D45-A734-C2649E5B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46DF-387C-495C-BDF9-B16DF7BC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E56A-085D-4EB1-AF16-9A3404FB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0EE5-BA95-426E-BC21-A86D1D91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5F6E-6396-4306-8CCB-1B1AE594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4C9C-92F6-44D4-ACE1-2F514F14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B74B-94DD-4162-B336-39BE667B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0927-8570-4780-AECE-27C67EB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57D8-EEA5-447D-B82B-BB467E44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AA8B-0656-4AD3-AA6F-849E5EEB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CF63-C3D5-46A2-B3CE-5CF6B3EA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741-8578-4A2E-AB88-919C94FA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9780-113F-4CF7-AFF8-E0C41C3D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4E81-2838-4882-991E-A6B50F5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4CB4-23CA-4C88-97B9-EB618E7B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78E4-B632-4701-9BB3-8E8E4E3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B486A-5645-473B-AAFD-4980A28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75BE-2BA1-4B70-B568-7C909960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64971-305F-43FD-A693-8F3B4A54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2D35-AA16-414A-8F0C-64E10F0B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9FD2-2424-4094-82C5-1A43B6CA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D98F-A1C9-4422-B934-842FCF94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334-1EDF-4FC7-A04A-D0CAB3C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C005-0CD7-4C1D-931D-5E1249D8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67C2-015C-4F5A-BAC2-2E7FF958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8572-506A-4B10-9915-938E6BA3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0DB6-09AD-4F9B-B82C-89253DEF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301C-792C-4C5E-8A9B-71C84BE8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83DC-95DA-488B-99F4-9AF8644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AB297-E40E-4E41-BE36-57691EB3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85C3-3DF1-496D-A1E3-1DC531C7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8B557-398D-4CD2-8E2D-5B22003F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82D71-B4D2-45AA-82FB-98B94A45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81D-CB56-4FAA-A677-035B66E4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AB441-6727-4868-BA2E-F3BF81C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B44B1-3357-4D02-A3D4-F94FCD6E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E720D-4CF6-422F-B9F2-6B13D440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8C3C0-DD5C-492D-9240-EC79473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4684-1DE3-47F0-A41C-2EB71334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97DC-216E-4169-8732-50CE292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0D3D5-4550-49B3-9685-227A44D3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DEFEA-D424-4A2A-B5DE-C3CFF729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EF813-F7D9-4D05-BA5E-2150339B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987B-60A8-46EB-A1F4-515E054A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1E2-4716-44CA-B444-167BAFC3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50626-6929-43FD-A8AA-E41F0914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587A-2A74-4FF8-BBA9-FC71843A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30928-FFDE-4B09-BDCF-1C4B1E46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2E968-6441-4667-A619-AF2E2358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182DC-F49A-43B9-89BD-BDCA73F0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851A1-D0DF-4A2D-AA1C-10D70ABD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E452B-D9C1-4EBC-9208-746B47D8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EC3D7-B97E-4E95-BABE-8BD254BC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4618D-90B6-4D23-B84C-C5B6801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0673E-EE8B-4421-96F5-789BAAB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C69-1CFC-486D-BDFB-44C77F4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97BD5-A656-49EA-B73E-BA4A6177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9FB6-5641-4C6B-8108-C7FAED3A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3E1CD-2D7C-42F8-B8E3-55706307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A511F-B8B6-4E3C-8E8C-9F613BC3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56724-2475-461D-A8C8-8538368F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787D2-833C-47D4-BB8C-E024F2AB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C1014-DE82-407D-906D-C6A8B1BA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B6B29-2F79-41EC-8BD3-B05AB76C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9608B-DD15-4B5B-8D08-CA50AA0A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FAB9E-578C-42B9-B144-75370DE5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201-2620-4D55-B83B-C1F6EDED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8592B-60AC-436F-AE1E-33A4375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6BA99-8A40-4865-A1EE-FFC68D6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E6662-5203-4837-8D50-46347C49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13F38-69FA-4B37-A58D-0996A2DE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DADE-BDDF-494E-86DA-398B66C0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A7CD3-C62D-4E49-A7A3-0036B4C3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27938-D562-496D-B48E-B827FD00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53E60-88AD-4F2B-92BC-1EBD8F30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10157-EC5D-4A0D-9F5F-E2504B9E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4B17C-900E-4743-9267-8C04C7F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D27-0A31-4B9D-870F-68FEDEB9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9DD3B-7B8A-4DAB-A13D-8D029A41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7059D-B74A-4DF2-8F0B-7812A9CF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C00B3-90C4-4294-B737-829FC35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671EC-BEBD-4B75-AE5E-07C60317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721D0-397C-43AA-8FA6-98A24F72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B2A74-AD78-4C5A-A2ED-A47EFEC5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8DBD3-DA2A-47A4-96F5-F502639C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8BB7-12BE-425D-829E-C23F5A5ABFF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2B6-2BC9-4A5D-A7F1-2A957B64C13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BE23-C5D7-44BB-A73C-F15DF45812D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C94F-0E2C-422F-A429-616DF3474D3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109-A563-44FC-B104-27C3CD42706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5FAD-8FAC-4FB7-AD8C-4CD9C410D65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A350-43A5-4079-89E2-0CA083FFD01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7884-5599-416C-930B-8E22819911D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d-book-nn.ru/docs/01-5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968400" y="1987560"/>
            <a:ext cx="756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Красная книга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ижегородской област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(растения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ttp://red-book-nn.ru/maps/NO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49480" y="546120"/>
            <a:ext cx="53719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328760" y="546120"/>
            <a:ext cx="7567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0. Виды, исчезнувшие на территории Нижегор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кой области — виды, встречи которых не зарегист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ованы в течение последних 50 лет (для позвоноч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животных) или 100 лет (для беспозвоночных животны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астений и грибов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А. Виды, находящиеся под угрозой исчезновения 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иды, численность которых достигла критического ур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я или же их места обитания претерпели столь кор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ые изменения, что в ближайшее время, видимо, исче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ут. Выживание таких видов возможно только при прин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ии срочных мер по улучшению условий их обитания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Б. Уязвимые виды — виды, численность которых б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тро сокращается и которые в ближайшем будуще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если не устранить неблагоприятные воздействия, п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рейдут в категорию 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В. Редкие виды — виды с низкой численностью,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одверженные непосредственной опасности вымирани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608040" y="185760"/>
            <a:ext cx="828828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Как устроена Красная книга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Черные страницы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одержат списки тех, кого уже нет, кого мы больше никогда не увидим, кто уже вымер (Морская корова, странствующие голуби и другие.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entury Gothic"/>
              </a:rPr>
              <a:t>Красные страницы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оказывают нам исчезающих и особо редких животных (зубры, красный волк, бобры, леопард, снежный барс, амурский тигр и другие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000"/>
                </a:solidFill>
                <a:uFillTx/>
                <a:latin typeface="Century Gothic"/>
              </a:rPr>
              <a:t>Желтые страницы</a:t>
            </a:r>
            <a:r>
              <a:rPr b="1" lang="ru-RU" sz="20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– те, животные количество которых быстро уменьшается (белые медведи, розовый фламинго, розовая чайка, джейран и другие)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Белые страницы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это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е животные, которых всегда была немного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bfbfbf"/>
                </a:solidFill>
                <a:uFillTx/>
                <a:latin typeface="Century Gothic"/>
              </a:rPr>
              <a:t>Серые страницы</a:t>
            </a:r>
            <a:r>
              <a:rPr b="1" lang="ru-RU" sz="2000" spc="-1" strike="noStrike">
                <a:solidFill>
                  <a:srgbClr val="bfbfb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– внесены те животные, которые очень мало изучены, и места их обитания малодоступн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2d050"/>
                </a:solidFill>
                <a:uFillTx/>
                <a:latin typeface="Century Gothic"/>
              </a:rPr>
              <a:t>Зеленые страницы</a:t>
            </a:r>
            <a:r>
              <a:rPr b="1" lang="ru-RU" sz="2000" spc="-1" strike="noStrike">
                <a:solidFill>
                  <a:srgbClr val="92d05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е животные, которых нам удалось сохранить, и спасти их от вымирания (лось, речной бобр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http://red-book-nn.ru/images/foto_27_.jpg"/>
          <p:cNvPicPr/>
          <p:nvPr/>
        </p:nvPicPr>
        <p:blipFill>
          <a:blip r:embed="rId1"/>
          <a:stretch/>
        </p:blipFill>
        <p:spPr>
          <a:xfrm>
            <a:off x="247680" y="1987560"/>
            <a:ext cx="4324320" cy="288288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968400" y="90648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ашмачок крупноцветны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4" descr="http://red-book-nn.ru/images/foto_25_.jpg"/>
          <p:cNvPicPr/>
          <p:nvPr/>
        </p:nvPicPr>
        <p:blipFill>
          <a:blip r:embed="rId2"/>
          <a:stretch/>
        </p:blipFill>
        <p:spPr>
          <a:xfrm>
            <a:off x="4932360" y="2347920"/>
            <a:ext cx="3989520" cy="2658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5852880" y="126684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амнеломка болотн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http://red-book-nn.ru/images/foto_23_.jpg"/>
          <p:cNvPicPr/>
          <p:nvPr/>
        </p:nvPicPr>
        <p:blipFill>
          <a:blip r:embed="rId1"/>
          <a:stretch/>
        </p:blipFill>
        <p:spPr>
          <a:xfrm>
            <a:off x="4264200" y="1627200"/>
            <a:ext cx="4335120" cy="2882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http://red-book-nn.ru/images/foto_24_.jpg"/>
          <p:cNvPicPr/>
          <p:nvPr/>
        </p:nvPicPr>
        <p:blipFill>
          <a:blip r:embed="rId2"/>
          <a:stretch/>
        </p:blipFill>
        <p:spPr>
          <a:xfrm>
            <a:off x="452520" y="3429000"/>
            <a:ext cx="4335480" cy="28828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621080" y="2708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орошк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5951520" y="90648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осянк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red-book-nn.ru/images/foto_34_.jpg"/>
          <p:cNvPicPr/>
          <p:nvPr/>
        </p:nvPicPr>
        <p:blipFill>
          <a:blip r:embed="rId1"/>
          <a:stretch/>
        </p:blipFill>
        <p:spPr>
          <a:xfrm>
            <a:off x="608040" y="1627200"/>
            <a:ext cx="3243240" cy="4857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"/>
          <p:cNvSpPr/>
          <p:nvPr/>
        </p:nvSpPr>
        <p:spPr>
          <a:xfrm>
            <a:off x="423000" y="9064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якотница однолистна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4" descr="http://red-book-nn.ru/images/foto_41_.jpg"/>
          <p:cNvPicPr/>
          <p:nvPr/>
        </p:nvPicPr>
        <p:blipFill>
          <a:blip r:embed="rId2"/>
          <a:stretch/>
        </p:blipFill>
        <p:spPr>
          <a:xfrm>
            <a:off x="4572000" y="2708280"/>
            <a:ext cx="4335480" cy="28828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5137200" y="198756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едуница мягонька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red-book-nn.ru/images/foto_2_.jpg"/>
          <p:cNvPicPr/>
          <p:nvPr/>
        </p:nvPicPr>
        <p:blipFill>
          <a:blip r:embed="rId1"/>
          <a:stretch/>
        </p:blipFill>
        <p:spPr>
          <a:xfrm>
            <a:off x="247680" y="2708280"/>
            <a:ext cx="4730760" cy="314964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1177560" y="234792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асатик безлистны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4" descr="http://red-book-nn.ru/images/foto_4_.jpg"/>
          <p:cNvPicPr/>
          <p:nvPr/>
        </p:nvPicPr>
        <p:blipFill>
          <a:blip r:embed="rId2"/>
          <a:stretch/>
        </p:blipFill>
        <p:spPr>
          <a:xfrm>
            <a:off x="4572000" y="1266840"/>
            <a:ext cx="4387680" cy="29178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4"/>
          <p:cNvSpPr/>
          <p:nvPr/>
        </p:nvSpPr>
        <p:spPr>
          <a:xfrm>
            <a:off x="5093640" y="546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донис весенний (горицвет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red-book-nn.ru/images/foto_42_.jpg"/>
          <p:cNvPicPr/>
          <p:nvPr/>
        </p:nvPicPr>
        <p:blipFill>
          <a:blip r:embed="rId1"/>
          <a:stretch/>
        </p:blipFill>
        <p:spPr>
          <a:xfrm>
            <a:off x="452520" y="3068640"/>
            <a:ext cx="4335480" cy="28828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140840" y="198756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огульник плавающи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4" descr="http://red-book-nn.ru/images/foto_14_.jpg"/>
          <p:cNvPicPr/>
          <p:nvPr/>
        </p:nvPicPr>
        <p:blipFill>
          <a:blip r:embed="rId2"/>
          <a:stretch/>
        </p:blipFill>
        <p:spPr>
          <a:xfrm>
            <a:off x="4572000" y="1536840"/>
            <a:ext cx="4324320" cy="28796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4755960" y="90648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ашмачок настоящий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http://red-book-nn.ru/images/foto_21_.jpg"/>
          <p:cNvPicPr/>
          <p:nvPr/>
        </p:nvPicPr>
        <p:blipFill>
          <a:blip r:embed="rId1"/>
          <a:stretch/>
        </p:blipFill>
        <p:spPr>
          <a:xfrm>
            <a:off x="4211640" y="1627200"/>
            <a:ext cx="4614840" cy="3081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http://red-book-nn.ru/images/foto_26_.jpg"/>
          <p:cNvPicPr/>
          <p:nvPr/>
        </p:nvPicPr>
        <p:blipFill>
          <a:blip r:embed="rId2"/>
          <a:stretch/>
        </p:blipFill>
        <p:spPr>
          <a:xfrm>
            <a:off x="608040" y="3673440"/>
            <a:ext cx="4324320" cy="28861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2"/>
          <p:cNvSpPr/>
          <p:nvPr/>
        </p:nvSpPr>
        <p:spPr>
          <a:xfrm>
            <a:off x="678240" y="270828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Лиственница сибирск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4957920" y="90648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узырник судетский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04Z</dcterms:created>
  <dc:creator>1</dc:creator>
  <dc:description/>
  <dc:language>en-US</dc:language>
  <cp:lastModifiedBy>Завучи</cp:lastModifiedBy>
  <dcterms:modified xsi:type="dcterms:W3CDTF">2010-12-01T07:22:47Z</dcterms:modified>
  <cp:revision>5</cp:revision>
  <dc:subject/>
  <dc:title>Слайд 1</dc:title>
</cp:coreProperties>
</file>