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1B9-B0DC-4289-8792-8746F351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74C-9291-44DA-B6DA-594AB9BF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117-C0AA-41F2-BF6D-9F19008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F8E-4C2B-44BE-8B08-90827967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0F20-A707-48A2-A119-10E133F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3575-C985-4A1F-B087-EC216F50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D890F-BBA7-47DB-A595-9CDB438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9BD9-185D-4962-9B7D-37DCCC0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EAB0-7E04-48DD-A63B-B1FEE44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16571-199A-4D1E-96EF-FCA86924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73CAB-B811-4C2B-AA98-CA8ED45B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23C-964B-4A20-AEF2-2966651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5431-D342-4060-82E8-8085AEF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EDC40-C7BD-458A-B6EA-8BAE467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A472-375A-4F53-B6CD-C9160BFD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8FBC-EF9A-4064-895E-5FE6B18D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D3904-F773-436F-95E0-0BADC209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5041-53E1-4DDC-9CA0-3102EDB9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B433-A7E2-436F-A1AC-A9ADA12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9C39-8BC7-4BCA-A163-25D79A9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D8E9-7E83-47BB-87C0-A4D1AA3E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36C8-71A5-46BA-8A8A-3A534CA4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AFA-A22C-4E48-9812-F7A7545C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1D22-0188-4A8A-B78C-DEC6A49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B628-0616-4F51-8D72-1EDEA9C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D521-6126-43E8-9D01-85F58BC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30FC-D519-4190-84EC-36BABC3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4EDA-C547-40F5-A90F-9569C8C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F43C-D286-4B3D-822C-B8C899D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8D55-EF93-4F68-850E-0FBE42C0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6521-7EAA-418E-9FC8-7D63D10D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4D26-F49A-49D6-9AD7-A3951DF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5FC3-EB2C-4D46-ABB5-90795FE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5A9-0012-43B9-BCB5-73F1BBD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5709-7BA5-4480-9FAF-0BE9B867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9F5C-2204-449B-9A6B-87B7EE7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BDBD-029B-491B-A769-AC1D6BB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0D67-8CF2-4DBE-A4CE-84FFB0E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92B7-08E3-4E8D-B01A-203FFB5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EB13-62B7-446F-803F-4365069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4BA0-14B0-4D5B-8A57-4B75293F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D13D-1FAC-4AD6-9105-F10EC406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0474-051A-49BC-8735-203385D7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3E6-9B37-465E-ABFC-B8E4D06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569-6F70-4D54-B6EC-F36770C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BA9-14CC-4B8C-9573-058A306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ABA-8AE8-4A3B-B7C6-084BD02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BD8-9AE4-4AC8-A622-4CC9EA2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DF2B-5F24-4D0C-BDC2-44FE3F116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D83-54D0-4B4F-B432-9B1AAE1EC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505-23F4-4A9D-BA3E-B9123A458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AC0-F733-4CE5-8378-9002BC43B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06028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ineta BT"/>
              </a:rPr>
              <a:t>РЕ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граф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   Проверка зна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99128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РЕСНАЯ ВОДА  СОСТАВЛЯЕТ В ГИДРОСФЕРЕ ЗЕМ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. 52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Б. 2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. 78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. ГЛАВНАЯ ПРИЧИНА ВОЗНИКНОВЕНИЯ ТЕЧЕНИЙ В ОКЕАН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. Приливы и отлив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Б. Постоянные вет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. рельеф морского 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. НАЗОВИТЕ МАТЕРИК, В КОТОРОМ ЕСТЬ ВНУТРЕННИЕ МОР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. Австрал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Б. Северная Амер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. Евраз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2370240"/>
            <a:ext cx="85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4. К БАССЕЙНУ КАКОГО ОКЕАНА ОТНОСИТСЯ СРЕДИЗЕМНОЕ МОР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А. Индий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Б.Ти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В.Атлант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5. ЦУНАМИ Э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А. Волны, вызванные морскими прили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Б. Волны, образующиеся при извержении подводных вулканов и землетряс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В. Ветер в Крымских го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6. ТЕМПЕРАТУРА ВОДЫ В ОКЕАНЕ С ГЛУБИН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А. Увеличи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Б. Уменьш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В.  Не измен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7. ГИДРОСФЕРА- ЭТО 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wis721 LtEx BT"/>
              </a:rPr>
              <a:t>ИЗУЧЕНИЕ НОВОГО МАТЕРИАЛА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Swis721 LtEx BT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Swis721 LtEx BT"/>
              </a:rPr>
              <a:t>ЗАДАНИЕ:  РАБОТАЯ В ПАРАХ, СОСТАВЬТЕ СХЕМУ                    ( СМОТРИ ТЕКСТ УЧЕБНИКА С. 68 )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20400" y="2581200"/>
            <a:ext cx="6263640" cy="3618000"/>
            <a:chOff x="1220400" y="2581200"/>
            <a:chExt cx="6263640" cy="3618000"/>
          </a:xfrm>
        </p:grpSpPr>
        <p:sp>
          <p:nvSpPr>
            <p:cNvPr id="190" name="_s159763"/>
            <p:cNvSpPr/>
            <p:nvPr/>
          </p:nvSpPr>
          <p:spPr>
            <a:xfrm flipH="1" flipV="1">
              <a:off x="2807640" y="4228560"/>
              <a:ext cx="773280" cy="1508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159762"/>
            <p:cNvSpPr/>
            <p:nvPr/>
          </p:nvSpPr>
          <p:spPr>
            <a:xfrm>
              <a:off x="1220400" y="3590640"/>
              <a:ext cx="1626840" cy="974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59761"/>
            <p:cNvSpPr/>
            <p:nvPr/>
          </p:nvSpPr>
          <p:spPr>
            <a:xfrm flipH="1">
              <a:off x="3398040" y="4922640"/>
              <a:ext cx="477000" cy="3938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59760"/>
            <p:cNvSpPr/>
            <p:nvPr/>
          </p:nvSpPr>
          <p:spPr>
            <a:xfrm>
              <a:off x="2105280" y="5224320"/>
              <a:ext cx="1626840" cy="974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59759"/>
            <p:cNvSpPr/>
            <p:nvPr/>
          </p:nvSpPr>
          <p:spPr>
            <a:xfrm>
              <a:off x="4829040" y="4922640"/>
              <a:ext cx="477000" cy="3938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159758"/>
            <p:cNvSpPr/>
            <p:nvPr/>
          </p:nvSpPr>
          <p:spPr>
            <a:xfrm>
              <a:off x="4971960" y="5224320"/>
              <a:ext cx="1626840" cy="974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59757"/>
            <p:cNvSpPr/>
            <p:nvPr/>
          </p:nvSpPr>
          <p:spPr>
            <a:xfrm flipV="1">
              <a:off x="5123520" y="4228560"/>
              <a:ext cx="773280" cy="1508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59756"/>
            <p:cNvSpPr/>
            <p:nvPr/>
          </p:nvSpPr>
          <p:spPr>
            <a:xfrm>
              <a:off x="5857200" y="3590640"/>
              <a:ext cx="1626840" cy="9748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59755"/>
            <p:cNvSpPr/>
            <p:nvPr/>
          </p:nvSpPr>
          <p:spPr>
            <a:xfrm flipV="1">
              <a:off x="4352040" y="3555720"/>
              <a:ext cx="0" cy="4874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59754"/>
            <p:cNvSpPr/>
            <p:nvPr/>
          </p:nvSpPr>
          <p:spPr>
            <a:xfrm>
              <a:off x="3539160" y="2581200"/>
              <a:ext cx="1626480" cy="974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159753"/>
            <p:cNvSpPr/>
            <p:nvPr/>
          </p:nvSpPr>
          <p:spPr>
            <a:xfrm>
              <a:off x="3539160" y="4043160"/>
              <a:ext cx="1626480" cy="974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В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СУШ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ОВЕРЬ СЕБ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241000" y="1844640"/>
            <a:ext cx="4661280" cy="4276080"/>
            <a:chOff x="2241000" y="1844640"/>
            <a:chExt cx="4661280" cy="4276080"/>
          </a:xfrm>
        </p:grpSpPr>
        <p:sp>
          <p:nvSpPr>
            <p:cNvPr id="203" name="_s162833"/>
            <p:cNvSpPr/>
            <p:nvPr/>
          </p:nvSpPr>
          <p:spPr>
            <a:xfrm flipH="1" flipV="1">
              <a:off x="3423240" y="3792960"/>
              <a:ext cx="573120" cy="1774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62832"/>
            <p:cNvSpPr/>
            <p:nvPr/>
          </p:nvSpPr>
          <p:spPr>
            <a:xfrm>
              <a:off x="2241000" y="3037680"/>
              <a:ext cx="120996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БОЛОТ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162831"/>
            <p:cNvSpPr/>
            <p:nvPr/>
          </p:nvSpPr>
          <p:spPr>
            <a:xfrm flipH="1">
              <a:off x="3861720" y="4614840"/>
              <a:ext cx="354600" cy="4640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62830"/>
            <p:cNvSpPr/>
            <p:nvPr/>
          </p:nvSpPr>
          <p:spPr>
            <a:xfrm>
              <a:off x="2900160" y="4968360"/>
              <a:ext cx="1210320" cy="1152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ПОДЗЕМНЫ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ВОД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162828"/>
            <p:cNvSpPr/>
            <p:nvPr/>
          </p:nvSpPr>
          <p:spPr>
            <a:xfrm>
              <a:off x="4928400" y="4613040"/>
              <a:ext cx="354600" cy="4658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62827"/>
            <p:cNvSpPr/>
            <p:nvPr/>
          </p:nvSpPr>
          <p:spPr>
            <a:xfrm>
              <a:off x="5033160" y="4968360"/>
              <a:ext cx="1210320" cy="1152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ЛЕДНИК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162826"/>
            <p:cNvSpPr/>
            <p:nvPr/>
          </p:nvSpPr>
          <p:spPr>
            <a:xfrm flipV="1">
              <a:off x="5146920" y="3791160"/>
              <a:ext cx="574920" cy="1774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162825"/>
            <p:cNvSpPr/>
            <p:nvPr/>
          </p:nvSpPr>
          <p:spPr>
            <a:xfrm>
              <a:off x="5692320" y="3037680"/>
              <a:ext cx="1209960" cy="1152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ОЗЕР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62824"/>
            <p:cNvSpPr/>
            <p:nvPr/>
          </p:nvSpPr>
          <p:spPr>
            <a:xfrm flipV="1">
              <a:off x="4571640" y="2997000"/>
              <a:ext cx="0" cy="576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62823"/>
            <p:cNvSpPr/>
            <p:nvPr/>
          </p:nvSpPr>
          <p:spPr>
            <a:xfrm>
              <a:off x="3966480" y="1844640"/>
              <a:ext cx="1210320" cy="1152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РЕК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162822"/>
            <p:cNvSpPr/>
            <p:nvPr/>
          </p:nvSpPr>
          <p:spPr>
            <a:xfrm>
              <a:off x="3966480" y="3573000"/>
              <a:ext cx="1210320" cy="1151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ВОД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СУШ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ПОПРОБУЙТЕ ДАТЬ ОПРЕДЕЛЕНИЕ, ЧТО ТАКОЕ РЕКА. Проверьте себя по учебнику с. 87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4880" y="1773000"/>
            <a:ext cx="8348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асти ре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6000" cy="3961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55640" y="623736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читайте текст на с. 88 и подпишите части 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. Подумайте, почему реки текут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.Найдите отличия между горными и равнинными рекам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280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49:39Z</dcterms:created>
  <dc:creator>1</dc:creator>
  <dc:description/>
  <dc:language>en-US</dc:language>
  <cp:lastModifiedBy>1</cp:lastModifiedBy>
  <dcterms:modified xsi:type="dcterms:W3CDTF">2008-02-07T17:49:45Z</dcterms:modified>
  <cp:revision>12</cp:revision>
  <dc:subject/>
  <dc:title>РЕКИ</dc:title>
</cp:coreProperties>
</file>