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F2B-4B2B-470A-8FE2-97F2DB38A2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CC3-BA64-474C-94AF-1F5D0FF5F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15C-9CEA-4078-A784-520238EE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3BE-B294-4473-B604-23D77667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8EDA-6AE2-4A05-B2CF-B5182F8C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526-96E4-41F5-9E01-E77469D2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8E9-847D-4670-AE29-A3AE5952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390E-189B-4FEB-85B6-3BA6BA5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6F0-371A-43E9-9F35-62313E92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6B67-1FDC-452C-B468-D6C4CFF9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0963-9A5B-4F04-97AB-948B0D86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EF2-DA4F-40E1-B0BF-31A9DCD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1C27-F9E7-4201-92C5-0F359BFC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D2E-ACC9-4A65-B918-4DC9FF5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43AE-E871-4D8F-802F-38B9AB2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23A-3747-494F-B745-36EF5567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B7F0-2D08-4627-8D41-78CE2B06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47C8-898E-4E36-A660-D934D02F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95BA-0535-4C97-8D97-ADDC7768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DB32-7693-40D5-8BFC-9401B5B9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68EE-D2D9-4EB5-9C50-E3419A5F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124C-8EDF-49CB-AE0C-A7B2315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92998-CD55-4352-83F3-E9CCE7E7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84B6-E4DD-4506-BC3E-BFC19A0E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42A-2E81-4946-83EB-0452DC9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BAE92-8CB7-48C5-A3C2-90A57EFF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1B27-7E20-45F8-BDFE-8E5DACD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831C7-82BE-44A4-8A2C-B31DFDB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C91A-F7EC-4D9B-B38C-58F53C21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AFB23-4496-4149-928C-81C8024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B198-09DE-42B3-86FD-2101838E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5E72-68E9-4884-BF75-52563378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0D6A-E768-4851-9EF5-543BEACA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8AFC-E81C-46F2-97AD-CE355207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C08F-FC02-4394-B675-5E7C6B4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29D-11F9-4234-9689-39E0768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BC35-FF34-431A-BE29-4F25525C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B321-D0D9-403E-9AA1-C9C1C23F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A93C-E88C-4D6E-931A-903EC12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595A-0600-4CE8-909C-920BFB72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102D2-C8A1-4945-93F4-58AA4CA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6406-DA81-4927-8F10-54F4959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585DD-4827-4128-865A-D9CFCB4D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D9EE-AA48-4715-8BA7-7D411800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0126-6349-4EE6-B074-FFE8DB51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DA0C-D206-4386-8F25-8CCA8BBD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86C-EB65-4F14-8612-02486F5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D774E-6978-4C2E-90A0-89CF421F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0EC87-7ADB-4F6B-9019-FC343BF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FEE8-1362-434C-9A2A-FB7B49C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21FE9-FF2F-4C1D-8055-F684DD3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EABD6-97DA-47F7-88EE-81A9DC37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A13A-A6B0-4392-9F7A-A6B35CA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AE6B-0A42-4EF6-BA66-4CFEDC65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5F0B-423D-4AFA-B539-C5E64EB7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4262-F433-4490-8B88-F2154A5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A027-87E8-40ED-8328-A4FAB053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E26-374A-4FA4-8903-425674DA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83F46-EF7A-489D-9CE8-2C5C96E0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97EC-75DA-40CC-8866-63E7D32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BB8D9-7A48-4226-AC4C-231F3A76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D064D-A6A2-4C8D-9EDD-12ABA61F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1E11-1F3A-4B6E-B879-99A0F078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30BD9-E030-4EF5-9F22-A89F099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FD4C1-D52D-4FAF-AED5-A96C4CCE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79ED-BBAB-4A65-BE9A-02506289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ED8CB-E393-48C7-8C99-5953402D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3CE2-9E5F-4BA6-8359-61F9D7B7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260-36C7-43AA-BFC7-AA128F2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87D16-8603-413C-A835-00D7F732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F21E-FCA2-463F-B4E9-8E400D89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99D2-E0FB-469E-A73B-1D626C38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F5A18-6A5B-4FE4-B24A-58BA505E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9D33-8306-47AE-9B4F-F82BABC6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27D0E-CED1-4A7C-9CD3-48B11A8A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835C-80CC-46CA-ADD3-51A39A65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D0B94-4EB9-4469-9EF4-885DC6F1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05B2C-7F7A-46CB-B0CD-D61BD3F4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CE4B6-B9FD-4C7A-8E30-91B021FE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4DC-2704-4201-AE7B-9ECC178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DE4E-C8FF-49CF-9F1F-1A52C453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079F-35B5-4996-A228-345902D2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F32B-62BE-457F-AF5F-A62B9F3A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A1EC7-C82B-4C79-8B42-A2D0EC0A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164F-C728-4E16-86DC-FAA82DE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E4E-87C8-48E5-8B0D-67E7546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D90F-B934-4A22-87F4-AF71ACDCB5F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6C49-9BCB-4C07-930B-275A13C101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6C8F-CE18-447A-9188-96C613BB9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8375-7D63-41D9-B8B3-93C1A84C94A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Прямоугольник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1F8-9E5B-4B36-8A49-BC8795E2948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E59-496B-4529-B62F-7FC00D74151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34e27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34e2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ccb4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8cadae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8c7b7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8fb08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29C-F63F-46E6-B41F-E6B5BEF272A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Подзаголовок 2" descr=""/>
          <p:cNvPicPr/>
          <p:nvPr/>
        </p:nvPicPr>
        <p:blipFill>
          <a:blip r:embed="rId2"/>
          <a:stretch/>
        </p:blipFill>
        <p:spPr>
          <a:xfrm>
            <a:off x="590400" y="1762200"/>
            <a:ext cx="8010720" cy="174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gradFill rotWithShape="0">
            <a:gsLst>
              <a:gs pos="0">
                <a:srgbClr val="ffa699"/>
              </a:gs>
              <a:gs pos="100000">
                <a:srgbClr val="ffe6e2"/>
              </a:gs>
            </a:gsLst>
            <a:lin ang="16200000"/>
          </a:gradFill>
          <a:ln cap="rnd" w="6480">
            <a:solidFill>
              <a:srgbClr val="d05f44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ыстор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Характерные признак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скор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арьер скорости 400 к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ксимальная скор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тогалере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ffa699"/>
              </a:gs>
              <a:gs pos="100000">
                <a:srgbClr val="ffe6e2"/>
              </a:gs>
            </a:gsLst>
            <a:lin ang="16200000"/>
          </a:gradFill>
          <a:ln cap="rnd" w="6480">
            <a:solidFill>
              <a:srgbClr val="d05f44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рмин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«supercar»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явился в 20-е годы прошлого века и закрепился в 60—80-е годы, благодаря сближению рынка стандартных легковых автомобилей и профессиональных гоночных моделей. В 80—90-е годы на рынке спортивных автомобилей наиболее известными были серийные машины компаний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Porsche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Jaguar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errar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amborghini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, наиболее мощные модели которых имели порог скорости в 320—330 км/ч. В 2000-е годы, вследствие повышения маркетингового спроса, произошел скачок: появилось поколение новых фирм, ставящих перед собой целью создание собственного автомобиля, имеющего «индивидуальное лицо» и значительно превосходящего устоявшийся стереотип максимума скорост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ременные рамки собственно титула «супер-автомобиль» подвижны, поскольку модельный ряд постоянно обновляется и с течением времени появляются более дорогие и более скоростные модели. Однако наиболее выдающиеся автомобили остаются в истории автомобилестроения, пополняют частные коллекции, музеи и, как правило, со временем не теряют в цене. Потребительский рынок имеет тенденцию к расширению, поскольку владение подобной машиной является статусным символом. Наибольшее хождение сам термин «суперкар» имеет в автомобильной пресс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Рисунок 4" descr="2010-03-18-9-5.jpg"/>
          <p:cNvPicPr/>
          <p:nvPr/>
        </p:nvPicPr>
        <p:blipFill>
          <a:blip r:embed="rId2"/>
          <a:stretch/>
        </p:blipFill>
        <p:spPr>
          <a:xfrm>
            <a:off x="457200" y="3490920"/>
            <a:ext cx="3338640" cy="2347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gradFill rotWithShape="0">
            <a:gsLst>
              <a:gs pos="0">
                <a:srgbClr val="ffa699"/>
              </a:gs>
              <a:gs pos="100000">
                <a:srgbClr val="ffe6e2"/>
              </a:gs>
            </a:gsLst>
            <a:lin ang="16200000"/>
          </a:gradFill>
          <a:ln cap="rnd" w="6480">
            <a:solidFill>
              <a:srgbClr val="d05f44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 fontScale="91000"/>
          </a:bodyPr>
          <a:p>
            <a:pPr marL="2616120" indent="-89280">
              <a:lnSpc>
                <a:spcPct val="80000"/>
              </a:lnSpc>
              <a:buClr>
                <a:srgbClr val="d16349"/>
              </a:buClr>
              <a:buSzPct val="80000"/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перкары относятся к дорожно-спортивным автомобилям юридически заводского изготовления, что отличает их от частных модифицированных автомобилей. Их производят, как правило небольшими сериями, компании, специализирующихся на выпуске спортивных и гоночных автомобмлей; либо малые фирмы, созданные для производства одной-двух собственных моделей ручной сборк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16120" indent="-89280">
              <a:lnSpc>
                <a:spcPct val="80000"/>
              </a:lnSpc>
              <a:buClr>
                <a:srgbClr val="d16349"/>
              </a:buClr>
              <a:buSzPct val="80000"/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асто такой автомобиль разрабатывается не только для любителей. Модели многих суперкаров проходят обкатку в профессиональных гонках 24-часовых серий (напр. 24 часа Ле-Мана, 24 часа Дайтоны) или различных гонках серий GT. Супер-кары больших автостроительных фирм иногда являются репликацией (модификацией) их собственных чисто гоночных моделей, как например Mercedes-Benz CLK GTR или Jaguar XJR-15, либо являются результатом дорогого, высококлассного и эксклюзивного тюнинга популярных моделей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16120" indent="-89280">
              <a:lnSpc>
                <a:spcPct val="80000"/>
              </a:lnSpc>
              <a:buClr>
                <a:srgbClr val="d16349"/>
              </a:buClr>
              <a:buSzPct val="80000"/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616120" indent="-89280">
              <a:lnSpc>
                <a:spcPct val="8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7"/>
          <p:cNvSpPr/>
          <p:nvPr/>
        </p:nvSpPr>
        <p:spPr>
          <a:xfrm>
            <a:off x="7599240" y="2295360"/>
            <a:ext cx="1098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TextBox 8"/>
          <p:cNvSpPr/>
          <p:nvPr/>
        </p:nvSpPr>
        <p:spPr>
          <a:xfrm>
            <a:off x="7709040" y="1984320"/>
            <a:ext cx="44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Рисунок 13" descr="20090924083431133.jpg"/>
          <p:cNvPicPr/>
          <p:nvPr/>
        </p:nvPicPr>
        <p:blipFill>
          <a:blip r:embed="rId2"/>
          <a:stretch/>
        </p:blipFill>
        <p:spPr>
          <a:xfrm>
            <a:off x="149400" y="1746360"/>
            <a:ext cx="2765160" cy="1836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0" y="1407600"/>
            <a:ext cx="9144000" cy="5450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тартовое ускорение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т 0 до 100 км/ч: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eber Faster one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ugatti Veyron — 2,5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ltima GTR,  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т 0 до 160 км/ч (100 миль/ч):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ugatti Veyron 16.4 Super Sport — 4,5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ltima GTR — 5,3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ugatti Veyron — 5,5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т 0 до 200 км/ч: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eber Faster One — 6,6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т 0 до 300 км/ч: 9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f GT9-R — 15,8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eber Faster One — 16,2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т 0 до 400 км/ч: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ugatti Veyron — 55,6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ugatti Veyron Super Sport — 50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езд на 400 м (¼ мили):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errari Enzo — 11,1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 (на скорости 214 км/ч);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Koenigsegg CCR — 9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 (на скорости 235 км/ч);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аезд на 1,6 км (1 миля), в котором достигается минимальная скорость 320 км/ч, могут выполнить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aleen S7, Bugatti Veyron, Pagani Zonda, Koenigsegg CCR, McLaren F1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и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errari FXX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0" y="1407600"/>
            <a:ext cx="9144000" cy="5450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писок современных автомобилей, преодолевающих отметку в 400 км/ч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arabus TK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ugatti Veyr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hrysler ME Four-Twelv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auer 962 LM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ennessey Venom G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eating TK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oenigsegg CCX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oenigsegg Agera 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otec Siriu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llet Twin Turbo ZR-1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elling Hellca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aleen S7 TwinTurbo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SSC Ultimate Aero T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9ff GT9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Weber Faster O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oenigsegg Trevita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3" descr="800px-Bugatti_Veyron-salzburg_(8).jpg"/>
          <p:cNvPicPr/>
          <p:nvPr/>
        </p:nvPicPr>
        <p:blipFill>
          <a:blip r:embed="rId2"/>
          <a:stretch/>
        </p:blipFill>
        <p:spPr>
          <a:xfrm>
            <a:off x="3522600" y="1906560"/>
            <a:ext cx="5621400" cy="28036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52804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0" y="1407600"/>
            <a:ext cx="9144000" cy="5450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31 марта 1998 года на тестовом треке компании Volkswagen (Германия) Энди Уоллес, управляя прототипом McLaren F1 XP5, установил рекорд скорости в 386,3 км/ч при 7800 об/мин (у серийной модели максимальные обороты двигателя были ограничены на отметке 7500 об/мин, что не позволяло ей разогнаться свыше 370 км/ч)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28 февраля 2005 года Koenigsegg CCR с двигателем мощностью 806 л. с. достиг скорости 387,87 км/ч на трассе Нардо (Италия)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в октябре 2005 года журнал «Car and Driver» на тестовом треке компании Volkswagen протестировал Bugatti Veyron, где автомобиль показал скорость в 407,5 км/ч; в 2006 году ведущие английской телепрограммы «Top Gear» на другом тестовом полигоне разогнали Bugatti Veyron до такой же скорости (в обоих случаях рекорд не был официально зарегистрирован)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d1634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13 сентября 2007 SSC Ultimate Aero TT на огражденном участке обычного шоссе вблизи города Уэст Ричлэнд (Вашингтон, США) достиг максимальной скрорости в 413,83 км/ч и средней скорости в обоих направлениях 411,76 км/ч. 9 октября 2007 рекорд занесен в Книгу рекордов Гиннеса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4 июля</a:t>
            </a:r>
            <a:r>
              <a:rPr b="0" lang="en-US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2010 водитель-испытатель Пьер-Анри Рафанэль за рулем модели Bugatti Veyro</a:t>
            </a:r>
            <a:r>
              <a:rPr b="0" lang="en-US" sz="15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16.4 Super Sport (1200 л.с.) достиг в двух последовательных заездах максимальную скорость 427,933 и 434,211 км/ч, что в среднем равняется </a:t>
            </a:r>
            <a:r>
              <a:rPr b="1" lang="ru-RU" sz="1500" spc="-1" strike="noStrike">
                <a:solidFill>
                  <a:srgbClr val="000000"/>
                </a:solidFill>
                <a:latin typeface="Corbel"/>
              </a:rPr>
              <a:t>431,072 км/ч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Заезды проходили на испытательном полигоне концерна Фольксваген в пос. Эра-Лессин близ города Вольфсбург. Присутствующие при этом предствители Германского государственного агентства технических стандартов (TÜV) и представитель Книги рекордов Гиннеса измеряли скорость с помощью приборов GPS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Рисунок 3" descr="Bugatti-Veyron-16.4-Super-Sport-2.jpg"/>
          <p:cNvPicPr/>
          <p:nvPr/>
        </p:nvPicPr>
        <p:blipFill>
          <a:blip r:embed="rId2"/>
          <a:stretch/>
        </p:blipFill>
        <p:spPr>
          <a:xfrm>
            <a:off x="219240" y="3875040"/>
            <a:ext cx="2546280" cy="1695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28"/>
          <p:cNvSpPr/>
          <p:nvPr/>
        </p:nvSpPr>
        <p:spPr>
          <a:xfrm>
            <a:off x="19080" y="1316160"/>
            <a:ext cx="9124920" cy="5541840"/>
          </a:xfrm>
          <a:prstGeom prst="rect">
            <a:avLst/>
          </a:prstGeom>
          <a:solidFill>
            <a:srgbClr val="000000"/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285840" y="-6480"/>
            <a:ext cx="8504280" cy="1268640"/>
          </a:xfrm>
          <a:prstGeom prst="rect">
            <a:avLst/>
          </a:prstGeom>
          <a:ln w="0">
            <a:noFill/>
          </a:ln>
        </p:spPr>
      </p:pic>
      <p:pic>
        <p:nvPicPr>
          <p:cNvPr id="330" name="Содержимое 12" descr="800px-2_Apollos_(Prototype)_with_F-4_Phantom.jpg"/>
          <p:cNvPicPr/>
          <p:nvPr/>
        </p:nvPicPr>
        <p:blipFill>
          <a:blip r:embed="rId2"/>
          <a:stretch/>
        </p:blipFill>
        <p:spPr>
          <a:xfrm>
            <a:off x="6261120" y="1252440"/>
            <a:ext cx="2590920" cy="185256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1" name="Рисунок 13" descr="800px-Bugatti_Veyron-salzburg_(8).jpg"/>
          <p:cNvPicPr/>
          <p:nvPr/>
        </p:nvPicPr>
        <p:blipFill>
          <a:blip r:embed="rId3"/>
          <a:stretch/>
        </p:blipFill>
        <p:spPr>
          <a:xfrm>
            <a:off x="2803680" y="1316160"/>
            <a:ext cx="3457440" cy="185076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2" name="Рисунок 18" descr="800px-Ferrari-enzo-remarkablecars.jpg"/>
          <p:cNvPicPr/>
          <p:nvPr/>
        </p:nvPicPr>
        <p:blipFill>
          <a:blip r:embed="rId4"/>
          <a:stretch/>
        </p:blipFill>
        <p:spPr>
          <a:xfrm>
            <a:off x="19080" y="1252440"/>
            <a:ext cx="2684520" cy="185112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3" name="Рисунок 19" descr="800px-Koenigsegg_CCXR_Edition_(1_von_2).jpg"/>
          <p:cNvPicPr/>
          <p:nvPr/>
        </p:nvPicPr>
        <p:blipFill>
          <a:blip r:embed="rId5"/>
          <a:stretch/>
        </p:blipFill>
        <p:spPr>
          <a:xfrm>
            <a:off x="6184800" y="3081240"/>
            <a:ext cx="2475000" cy="177012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4" name="Рисунок 21" descr="800px-Maserati_MC12_2-cropped.jpg"/>
          <p:cNvPicPr/>
          <p:nvPr/>
        </p:nvPicPr>
        <p:blipFill>
          <a:blip r:embed="rId6"/>
          <a:stretch/>
        </p:blipFill>
        <p:spPr>
          <a:xfrm>
            <a:off x="3187800" y="4851360"/>
            <a:ext cx="2565360" cy="185112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5" name="Рисунок 22" descr="800px-MercedesBenz_SLR_C199_2_amk.jpg"/>
          <p:cNvPicPr/>
          <p:nvPr/>
        </p:nvPicPr>
        <p:blipFill>
          <a:blip r:embed="rId7"/>
          <a:stretch/>
        </p:blipFill>
        <p:spPr>
          <a:xfrm>
            <a:off x="158760" y="3089160"/>
            <a:ext cx="2644920" cy="176220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3" descr="800px-Porsche_Carrera_GT_silver_vr_EMS.jpg"/>
          <p:cNvPicPr/>
          <p:nvPr/>
        </p:nvPicPr>
        <p:blipFill>
          <a:blip r:embed="rId8"/>
          <a:stretch/>
        </p:blipFill>
        <p:spPr>
          <a:xfrm>
            <a:off x="2803680" y="3105000"/>
            <a:ext cx="3381120" cy="174636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337" name="Рисунок 24" descr="800px-Saleen_S7.jpg"/>
          <p:cNvPicPr/>
          <p:nvPr/>
        </p:nvPicPr>
        <p:blipFill>
          <a:blip r:embed="rId9"/>
          <a:stretch/>
        </p:blipFill>
        <p:spPr>
          <a:xfrm>
            <a:off x="5972040" y="4851360"/>
            <a:ext cx="2880000" cy="17463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25" descr="800px-STA42533.JPG"/>
          <p:cNvPicPr/>
          <p:nvPr/>
        </p:nvPicPr>
        <p:blipFill>
          <a:blip r:embed="rId10"/>
          <a:stretch/>
        </p:blipFill>
        <p:spPr>
          <a:xfrm>
            <a:off x="291960" y="4851360"/>
            <a:ext cx="2511720" cy="1862280"/>
          </a:xfrm>
          <a:prstGeom prst="rect">
            <a:avLst/>
          </a:prstGeom>
          <a:ln cap="rnd" w="6480">
            <a:solidFill>
              <a:srgbClr val="0000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34:43Z</dcterms:created>
  <dc:creator>XTreme</dc:creator>
  <dc:description/>
  <dc:language>en-US</dc:language>
  <cp:lastModifiedBy>Игорь Борисович</cp:lastModifiedBy>
  <dcterms:modified xsi:type="dcterms:W3CDTF">2012-01-31T04:50:50Z</dcterms:modified>
  <cp:revision>25</cp:revision>
  <dc:subject/>
  <dc:title>Слайд 1</dc:title>
</cp:coreProperties>
</file>