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8.jpeg" ContentType="image/jpeg"/>
  <Override PartName="/ppt/media/image10.gif" ContentType="image/gif"/>
  <Override PartName="/ppt/media/image9.wmf" ContentType="image/x-wmf"/>
  <Override PartName="/ppt/media/image11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3.wmf" ContentType="image/x-wmf"/>
  <Override PartName="/ppt/media/image15.jpeg" ContentType="image/jpeg"/>
  <Override PartName="/ppt/media/image17.png" ContentType="image/png"/>
  <Override PartName="/ppt/media/image16.png" ContentType="image/png"/>
  <Override PartName="/ppt/media/image2.png" ContentType="image/png"/>
  <Override PartName="/ppt/media/image14.wmf" ContentType="image/x-wmf"/>
  <Override PartName="/ppt/media/image6.png" ContentType="image/png"/>
  <Override PartName="/ppt/media/image7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C72F-DDFB-4C42-8CA9-370ABF94E49E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E372-3E25-48B3-BF96-234D88B132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93B8-F40A-432C-9079-AB0984924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DA5E-6256-4C8A-9309-0399832E5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7F4182-3CAD-469E-AD1E-5B1AA370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F4F86-85CF-472E-BFB7-A71664F23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C0D8F3-D711-424B-B0B8-D68F58780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FDEB09-7D07-44EF-B30D-E759426A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DA896E-A5B1-40A9-841F-79B8F348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0E27A-9E00-4ABE-86B0-9159AC64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5F5B58-01A9-4D08-94CC-702406123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BF4D0-120A-4892-ADD2-21DD87A2C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0815FD-041D-4618-A1D9-361DF2BD1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41D4DB-427A-4E0B-A681-D87CF5585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1750-5053-4FCC-8BC5-F4E882616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253A2A-9A5B-4DE9-B88E-D8D098C2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DC684-2FB7-4DC7-922F-4AA7158FA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8C8959-FA2F-4EAC-AE68-05AEB2EA0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1997CC-AC67-43BA-A949-E43840B9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44A89-73A6-41BF-9187-DB23BF03F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C25A8E-2F4B-4FED-92D1-5143A84B5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0270EF-56FF-412C-81FE-8AAD25B7C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838B9B-8DC5-42E2-A827-4F35642A6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FEC013-45B4-4572-BE32-8FAD2695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923A6B-8D5A-4E69-939C-456F9D420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32EC-D941-4AFC-A515-972BEBB29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A94D4C-CB16-4CB0-9800-A41F1E042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6A087-0222-4296-A9B8-2C5E8B136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9EB05C-E751-4F4F-BA08-A93ECDDBA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1B5848-F398-48A0-9A05-84988ED2F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A9BF5E-F1BA-42E7-ABFF-882C20A3F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3D2611-0FA5-4F59-B45B-8CD3B1E88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8A1A6-87B8-4AC7-8FF7-A840B7831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1E2E3B-52FC-4903-85D7-18ADF40E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5C10FF3-5135-41C0-89A8-DBC5BF1F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A8139A-6B0F-46F2-BF68-D3F668833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BDF65-5699-4500-A6CB-A1759D5B3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A361A4-EA4A-4EE2-A4D4-7D6DA5C66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42E7FD-6675-4D53-B54B-1C9EE2BEF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EDC268-8528-4EC3-9347-B8F7C2603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7F512F-8F85-4DBB-895D-9604CB8AF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5047DA-7C24-4A41-B553-CD5ADD1C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378F32-C784-4FD7-B923-3562387C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24656C-E0CF-4EE8-B2A8-00C5F54D3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297AB4-54C9-46F4-99CD-C63B091A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305D9D-77D8-424E-B021-870E0FD02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14B84C-FCCB-4990-BF88-165ECED6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F0F38-9D38-457F-95AA-619CB73C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574508-393C-4F11-A3B7-9E0DC74B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CCDBC2-2BB8-479C-9BF7-618A4390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E5585B-8019-4846-A08B-DA686B717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3FA0A7-EC97-4021-BF0B-3EAA5247A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A0C958-15D6-4780-839C-820E05544A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448C-E1B1-4435-9AFB-81A787FD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CA0A-972E-4AA0-90DC-C3F19E77A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0EC1-3502-4D94-809A-400DDE04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1F558-614E-4B14-8DD2-891F8D69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2FA56-458B-4B63-9F51-FDF62969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B4C2-BB80-43F2-ABC5-67AF9D12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52C5E-7B98-4E0A-AB1A-D58B440C6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AA8AC-DC86-45EC-AB12-2F625564B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560CB-609E-4229-9F87-4A734CD2C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D44B-34FD-483C-8883-D475F4820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14C31-D114-4DBF-BCDE-40D348CDB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4D13E9-19E7-4E84-8671-B6192312B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E51C3-E349-4D66-B756-68DA99FA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DDC953-10B2-4673-8C13-42F4CC074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48937-194A-4C23-AD8E-67AA7E24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2FFEBF-7861-420D-A3FF-6A88810F8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1E58-6BB3-4A40-A0B3-A35262D9D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032B85-18CC-457B-BA9E-CFCD9E92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C64B8B-A84D-42AE-96CD-A3DC8BBF2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2D457-C5E2-4FFC-B84A-F6A133A00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A98958-4187-481D-A110-C14BB6AB8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D20763-855A-4724-87F1-ECB97E1A5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AA5E1-8E0F-44DD-8083-515945106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E7E45F-6EA7-4CF6-A5C8-E9248E6D7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4BA1D-3E74-4729-A010-63C7A6513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1EBA83-88C4-444C-8C60-4CEED8BF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C7D61A-5A76-4A60-822B-0C97159B2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D4C4-37D6-49D9-AB37-8495BD5F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F2BBA-A319-4AA7-AFB4-109646EB1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5A54C5-72E8-435E-B225-0EDB5263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72A1C3-1689-432C-B6EA-B3203BCD4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0B0B86-6197-4199-9929-10C2A502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AD0669-9CCA-48FC-9D78-BBB94BD61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5E4700-44F6-44EA-AA6A-EB5DF6FD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22CAC5-6E76-434F-998A-50C7B90A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2E388D-64A8-4EDF-A06B-F0EB68174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AA4640-A640-4D72-A680-9E5A9EC01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1F69D-220D-4AD8-83EA-A3D67C7A7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DDF1-138A-4D2B-90A5-390189F6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ABBE55-69C8-4734-9C43-0D0AF400C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ACE43-26BB-45A6-A442-3FB2659FD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B160D-9076-4C3A-844C-AFA4E0C8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0429B-DC1A-42FA-8C57-4927FD1BB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73E43-0E0C-439E-B779-99807D54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CEBE2E-23EC-479D-9BFB-96FF8E6F9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81847-8725-4CA6-A428-3DAA5F61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144B10-CF35-424D-9DBB-EF3DFBA5F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6C359-EDD7-4A5C-B829-B854B8CA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AD33A9-85D2-4FDE-99C7-779F47F7E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80BB-A72D-4047-989E-4220E7AC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7B20D5-FEA7-447E-951C-F64911704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2D8A19-BF83-49BD-B5B8-68106F19A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18CE8B-C315-4818-B9CF-0B8715821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0D7F8-F9B9-4B97-B981-25D0DD3B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799AD-65F5-4BAC-9066-11E6B17CB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1DE4B0-BF10-41A0-AE27-43ED7576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214A2E-7378-4604-BAAE-15B211D24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2228B4-CBF2-408E-A46E-EE5798E86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76EEC9-176C-4D06-BEA6-AA16470E0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6F25C-173D-4615-8FB1-C81079D7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43CF-5A85-4313-A624-4DF85C5D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259630-B99A-48DB-9C66-80E7387D9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A0F434-E12D-4534-BC62-DFD2F9445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F2EEB-DCFB-4E58-B416-D361407CC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38729D-ECD1-4EF2-A2AC-BB5B70AB4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275C1F-3FCA-430E-A767-EEE23E81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A88C3-EFF7-4DE8-A363-307602A7A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05DD7-8B77-4465-B488-591F4AB46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557E9-4EB9-44DF-BAE5-0621B8A9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7424CC-15EC-49EA-9A7F-D63A03BD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0F17A-EC5A-4CC4-BE28-4A71BE16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A5EC-A64F-457A-9151-C44CF92C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3D5BA4-1791-48F6-9D5A-9501C2A62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5E7E20-D979-45A7-A805-C40B73DB4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03223-2929-4E24-A4B4-0ABA2756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115F89-AAF2-4338-AD41-4CCFE7E99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753EA-1889-43E4-B1CD-7D0BADE2D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78EA1E-A337-4477-B979-753711F072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0558D-4C38-485B-A4E5-23BFE3C5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C3774F-D0A5-4A22-B82C-AFA4157D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C34513-92F3-47CC-AC12-D948B8BEB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0B7201-4339-4307-8EE5-12729A34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7D90-95CD-4731-A743-21F80697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4D2357-3F74-414E-B7F8-7A54A8B8F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2C3985-2952-4CFE-93A4-C3354BE05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A46083-FFCB-4DED-BF85-2F16BAC9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02F6AD-3D15-47C4-9254-4D3F62CBA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C6DD19-E17B-48C2-96B4-7ABC58397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6E46E-FAE6-4674-94C1-012C66C04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D623C-3C3C-4208-93D9-6782F37CB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6F44DA-423F-45E1-9EA7-7E19230A3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03AE83-5769-419E-A523-FA2D51B5B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ACC40-8CAF-437F-8CC8-9CFEBCA9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7467-A9A8-483E-B2F4-04619E58D9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9B3D6-46C9-453A-946C-98360DAA73C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2CEEB-67A1-4ED1-90B3-5F43949619D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D3C4D-F23A-4DB8-BFAA-E88C3544B9B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56555-7ACA-4B2B-8602-FAACD1B248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4D29F-7AF0-4CBA-8EA2-2827E0BEF82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CBF73-0B04-40B7-B90A-B90C92B0A8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67EB-2922-464D-B849-B20D8A7FB9B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938DC-965E-4A6E-9487-859D12EED2B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13C4D-670E-46C9-805F-AED7B17E028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ADCAD-3661-484B-8708-B27A266D618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32CE8-92E0-46AC-B85A-7C192545FB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ru/imgres?imgurl=http://fcnow.ru/http://fcnow.ru/wp-content/uploads/182162-300x241.jpg&amp;imgrefurl=http://fcnow.ru/%3Ftag%3D%25D0%25BD%25D0%25BE%25D0%25B2%25D1%258B%25D0%25B9-%25D0%25BF%25D0%25B5%25D0%25BD%25D1%2581%25D0%25B8%25D0%25BE%25D0%25BD%25D0%25BD%25D1%258B%25D0%25B9-%25D0%25B7%25D0%25B0%25D0%25BA%25D0%25BE%25D0%25BD&amp;usg=__NvP76-W3ZHGu9zDB_xyeQzlvCSo=&amp;h=241&amp;w=300&amp;sz=24&amp;hl=ru&amp;start=72&amp;itbs=1&amp;tbnid=ILTltNdtYmdxCM:&amp;tbnh=93&amp;tbnw=116&amp;prev=/images%3Fq%3D%25D0%25B2%25D0%25B7%25D0%25BD%25D0%25BE%25D1%2581%2B%25D0%25B2%2B%25D0%25BF%25D0%25B5%25D0%25BD%25D1%2581%25D0%25B8%25D0%25BE%25D0%25BD%25D0%25BD%25D1%258B%25D0%25B5%2B%25D1%2584%25D0%25BE%25D0%25BD%25D0%25B4%25D1%258B%26start%3D60%26hl%3Dru%26newwindow%3D1%26sa%3DN%26gbv%3D2%26ndsp%3D20%26tbs%3Disch:1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9" name="Заголовок 5" descr=""/>
          <p:cNvPicPr/>
          <p:nvPr/>
        </p:nvPicPr>
        <p:blipFill>
          <a:blip r:embed="rId1"/>
          <a:stretch/>
        </p:blipFill>
        <p:spPr>
          <a:xfrm>
            <a:off x="633240" y="633240"/>
            <a:ext cx="7785360" cy="1298880"/>
          </a:xfrm>
          <a:prstGeom prst="rect">
            <a:avLst/>
          </a:prstGeom>
          <a:ln w="0">
            <a:noFill/>
          </a:ln>
        </p:spPr>
      </p:pic>
      <p:pic>
        <p:nvPicPr>
          <p:cNvPr id="500" name="Прямоугольник 9" descr=""/>
          <p:cNvPicPr/>
          <p:nvPr/>
        </p:nvPicPr>
        <p:blipFill>
          <a:blip r:embed="rId2"/>
          <a:stretch/>
        </p:blipFill>
        <p:spPr>
          <a:xfrm>
            <a:off x="1420920" y="2139840"/>
            <a:ext cx="6418080" cy="1200240"/>
          </a:xfrm>
          <a:prstGeom prst="rect">
            <a:avLst/>
          </a:prstGeom>
          <a:ln w="0">
            <a:noFill/>
          </a:ln>
        </p:spPr>
      </p:pic>
      <p:sp>
        <p:nvSpPr>
          <p:cNvPr id="501" name="TextBox 10"/>
          <p:cNvSpPr/>
          <p:nvPr/>
        </p:nvSpPr>
        <p:spPr>
          <a:xfrm>
            <a:off x="5500800" y="3500280"/>
            <a:ext cx="300024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втор:                             Шагалова Ан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еница 10 «А» клас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У СОШ №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. Ксто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ководитель Митрясова Т.П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010 г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Picture 1037" descr="FORTUNE"/>
          <p:cNvPicPr/>
          <p:nvPr/>
        </p:nvPicPr>
        <p:blipFill>
          <a:blip r:embed="rId3"/>
          <a:stretch/>
        </p:blipFill>
        <p:spPr>
          <a:xfrm flipH="1">
            <a:off x="1571760" y="3716280"/>
            <a:ext cx="2000160" cy="20113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Бланк заявле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1" name="Object 4"/>
          <p:cNvGraphicFramePr/>
          <p:nvPr/>
        </p:nvGraphicFramePr>
        <p:xfrm>
          <a:off x="2771640" y="1268280"/>
          <a:ext cx="3537000" cy="525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1268280"/>
                    <a:ext cx="3537000" cy="525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68000" y="54936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Я р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ассчитаю будущую пенсию</a:t>
            </a:r>
            <a:r>
              <a:rPr b="1" i="1" lang="ru-RU" sz="3200" spc="-1" strike="noStrike">
                <a:solidFill>
                  <a:srgbClr val="c00000"/>
                </a:solidFill>
                <a:latin typeface="Arial"/>
              </a:rPr>
              <a:t> моего папы</a:t>
            </a:r>
            <a:r>
              <a:rPr b="1" i="1" lang="ru-RU" sz="32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4" name="Group 3"/>
          <p:cNvGrpSpPr/>
          <p:nvPr/>
        </p:nvGrpSpPr>
        <p:grpSpPr>
          <a:xfrm>
            <a:off x="611280" y="2492280"/>
            <a:ext cx="2542680" cy="2500560"/>
            <a:chOff x="611280" y="2492280"/>
            <a:chExt cx="2542680" cy="2500560"/>
          </a:xfrm>
        </p:grpSpPr>
        <p:pic>
          <p:nvPicPr>
            <p:cNvPr id="635" name="Picture 4" descr="E:\CORPBAS\BD05969_.WMF"/>
            <p:cNvPicPr/>
            <p:nvPr/>
          </p:nvPicPr>
          <p:blipFill>
            <a:blip r:embed="rId1"/>
            <a:stretch/>
          </p:blipFill>
          <p:spPr>
            <a:xfrm>
              <a:off x="1203480" y="2492280"/>
              <a:ext cx="1950480" cy="25005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pic>
          <p:nvPicPr>
            <p:cNvPr id="636" name="Picture 6" descr="E:\CORPBAS\J0079114.WMF"/>
            <p:cNvPicPr/>
            <p:nvPr/>
          </p:nvPicPr>
          <p:blipFill>
            <a:blip r:embed="rId2"/>
            <a:stretch/>
          </p:blipFill>
          <p:spPr>
            <a:xfrm>
              <a:off x="611280" y="2723040"/>
              <a:ext cx="1015560" cy="216396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</p:grpSp>
      <p:sp>
        <p:nvSpPr>
          <p:cNvPr id="637" name="TextBox 8"/>
          <p:cNvSpPr/>
          <p:nvPr/>
        </p:nvSpPr>
        <p:spPr>
          <a:xfrm>
            <a:off x="3492360" y="1628640"/>
            <a:ext cx="5400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й папа зарабатывает 20 000 рублей в меся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участии в накопительной Программе, действие которой 10 лет, он совершает взнос в 1000 рублей каждый месяц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осударство удваивает эти деньги, и вносит 1000 рублей ежемесяч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копление за год составят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 000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∙ 12 = 24 000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копление за 10 лет составят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24 000 ∙ 10 = 240 000 рубл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им образом через 10 лет его счет в пенсионном фонде будет равен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40 000 рубл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Text Box 2"/>
          <p:cNvSpPr/>
          <p:nvPr/>
        </p:nvSpPr>
        <p:spPr>
          <a:xfrm>
            <a:off x="646200" y="785880"/>
            <a:ext cx="76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7133a"/>
                </a:solidFill>
                <a:latin typeface="Times New Roman"/>
              </a:rPr>
              <a:t>Льготы для участников програм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/>
          </p:nvPr>
        </p:nvSpPr>
        <p:spPr>
          <a:xfrm>
            <a:off x="250920" y="1600200"/>
            <a:ext cx="5689440" cy="44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сумм, которые Вы внесете на накопительную часть своей пенсии в рамках программы софинансиро-вания, может быть произведен на-логовый вычет, средства которого можно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ть на опреде-ленные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бразование, здра-воохранение и т.д.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0" name="Picture 10" descr="Standart-vichet"/>
          <p:cNvPicPr/>
          <p:nvPr/>
        </p:nvPicPr>
        <p:blipFill>
          <a:blip r:embed="rId1"/>
          <a:stretch/>
        </p:blipFill>
        <p:spPr>
          <a:xfrm>
            <a:off x="6156360" y="2492280"/>
            <a:ext cx="2736720" cy="2349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Text Box 5"/>
          <p:cNvSpPr/>
          <p:nvPr/>
        </p:nvSpPr>
        <p:spPr>
          <a:xfrm>
            <a:off x="324000" y="1989000"/>
            <a:ext cx="562428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 можете вносить в фонд своей будущей   пенсии 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12 000 рублей в г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о взнос государства при этом не превыси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000 рублей в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граждан достигших общеустановленного пенсионного возраста, но не обратившихся в Пенсионный фонд за начислением трудовой пенсии, объем государственного софинансировани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величится в 4 раз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о не будет превышать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 000 рублей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4"/>
          <p:cNvSpPr/>
          <p:nvPr/>
        </p:nvSpPr>
        <p:spPr>
          <a:xfrm>
            <a:off x="611280" y="333360"/>
            <a:ext cx="78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7133a"/>
                </a:solidFill>
                <a:latin typeface="Times New Roman"/>
              </a:rPr>
              <a:t>Объем государственного    софинансирова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Picture 11" descr="%D1%84%D0%BE%D0%BD%D0%B41"/>
          <p:cNvPicPr/>
          <p:nvPr/>
        </p:nvPicPr>
        <p:blipFill>
          <a:blip r:embed="rId1"/>
          <a:stretch/>
        </p:blipFill>
        <p:spPr>
          <a:xfrm>
            <a:off x="6227640" y="4005360"/>
            <a:ext cx="2521080" cy="205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Text Box 5"/>
          <p:cNvSpPr/>
          <p:nvPr/>
        </p:nvSpPr>
        <p:spPr>
          <a:xfrm>
            <a:off x="428760" y="357120"/>
            <a:ext cx="835344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b7133a"/>
                </a:solidFill>
                <a:latin typeface="Arial"/>
              </a:rPr>
              <a:t>Продолжительность действия Программы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6"/>
          <p:cNvSpPr/>
          <p:nvPr/>
        </p:nvSpPr>
        <p:spPr>
          <a:xfrm>
            <a:off x="921600" y="1844640"/>
            <a:ext cx="723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упить в Программу можно до 1 октября 2013 го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о будет  ежегодно  софинансировать Ваш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ады в течение 10 лет с момента первого взно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Box 1"/>
          <p:cNvSpPr/>
          <p:nvPr/>
        </p:nvSpPr>
        <p:spPr>
          <a:xfrm>
            <a:off x="900000" y="3068640"/>
            <a:ext cx="703116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грамме государственного софинансирования пенсии уже участвует боле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000 000 граждан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и и это граждане которые могут с уверенностью сказат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b7133a"/>
                </a:solidFill>
                <a:latin typeface="Times New Roman"/>
                <a:ea typeface="Times New Roman"/>
              </a:rPr>
              <a:t>«Моя будущая пенсия зависит от меня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2070000" cy="2492280"/>
          </a:xfrm>
          <a:prstGeom prst="rect">
            <a:avLst/>
          </a:prstGeom>
          <a:ln w="0">
            <a:noFill/>
          </a:ln>
        </p:spPr>
      </p:pic>
      <p:sp>
        <p:nvSpPr>
          <p:cNvPr id="648" name="WordArt 8"/>
          <p:cNvSpPr txBox="1"/>
          <p:nvPr/>
        </p:nvSpPr>
        <p:spPr>
          <a:xfrm>
            <a:off x="1908000" y="0"/>
            <a:ext cx="19242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пособов</a:t>
            </a:r>
            <a:endParaRPr b="0" lang="en-US" sz="2000" spc="1" strike="noStrike">
              <a:ln w="0">
                <a:noFill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49" name="WordArt 9"/>
          <p:cNvSpPr txBox="1"/>
          <p:nvPr/>
        </p:nvSpPr>
        <p:spPr>
          <a:xfrm>
            <a:off x="1908000" y="692280"/>
            <a:ext cx="213372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увеличить</a:t>
            </a:r>
            <a:endParaRPr b="0" lang="en-US" sz="2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0" name="WordArt 10"/>
          <p:cNvSpPr txBox="1"/>
          <p:nvPr/>
        </p:nvSpPr>
        <p:spPr>
          <a:xfrm>
            <a:off x="1979640" y="1341360"/>
            <a:ext cx="187632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будущую</a:t>
            </a:r>
            <a:endParaRPr b="0" lang="en-US" sz="20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1" name="WordArt 11"/>
          <p:cNvSpPr txBox="1"/>
          <p:nvPr/>
        </p:nvSpPr>
        <p:spPr>
          <a:xfrm>
            <a:off x="2124000" y="1989000"/>
            <a:ext cx="15717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пенсию</a:t>
            </a:r>
            <a:endParaRPr b="0" lang="en-US" sz="20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2" name="Прямоугольник 3"/>
          <p:cNvSpPr/>
          <p:nvPr/>
        </p:nvSpPr>
        <p:spPr>
          <a:xfrm>
            <a:off x="214200" y="2786040"/>
            <a:ext cx="3745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ремитесь заработать большой стаж и работайте в компании, которая платит «белую» зарплату, а не «в конвертах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Прямоугольник 4"/>
          <p:cNvSpPr/>
          <p:nvPr/>
        </p:nvSpPr>
        <p:spPr>
          <a:xfrm>
            <a:off x="285840" y="4714920"/>
            <a:ext cx="4178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рамотно управляй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акопительной частью сво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будущей пенс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Прямоугольник 5"/>
          <p:cNvSpPr/>
          <p:nvPr/>
        </p:nvSpPr>
        <p:spPr>
          <a:xfrm>
            <a:off x="4286160" y="78588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Участвуйте в программа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егосударствен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енсионного обеспеч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Прямоугольник 1"/>
          <p:cNvSpPr/>
          <p:nvPr/>
        </p:nvSpPr>
        <p:spPr>
          <a:xfrm>
            <a:off x="3959280" y="2421000"/>
            <a:ext cx="5184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е торопитесь выходить на пенси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аш страховой стаж влияет на размер трудовой пенсии. Чем дольше Вы работаете после достижения общеустановленного пенсионного возраста тем выше будет ее разме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Прямоугольник 10"/>
          <p:cNvSpPr/>
          <p:nvPr/>
        </p:nvSpPr>
        <p:spPr>
          <a:xfrm>
            <a:off x="4286160" y="4857840"/>
            <a:ext cx="457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Участвуйте в Програм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осударствен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финансирования пен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8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b7133a"/>
                </a:solidFill>
                <a:latin typeface="Georgia"/>
              </a:rPr>
              <a:t>Наполни свой пенсионный портфель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8" name="Picture 4" descr=""/>
          <p:cNvPicPr/>
          <p:nvPr/>
        </p:nvPicPr>
        <p:blipFill>
          <a:blip r:embed="rId1"/>
          <a:stretch/>
        </p:blipFill>
        <p:spPr>
          <a:xfrm rot="20489400">
            <a:off x="6232680" y="4500360"/>
            <a:ext cx="2931840" cy="1942920"/>
          </a:xfrm>
          <a:prstGeom prst="rect">
            <a:avLst/>
          </a:prstGeom>
          <a:ln w="0">
            <a:noFill/>
          </a:ln>
        </p:spPr>
      </p:pic>
      <p:sp>
        <p:nvSpPr>
          <p:cNvPr id="659" name="Text Box 8"/>
          <p:cNvSpPr/>
          <p:nvPr/>
        </p:nvSpPr>
        <p:spPr>
          <a:xfrm>
            <a:off x="428760" y="1571760"/>
            <a:ext cx="8084880" cy="436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ознавая  как тяжело прожить гражданам на получаемую пенсию, стоит задуматься о своей собственной будущей пенсии уже сейчас. Для того чтобы в преклонном возрасте, не столкнуться с недостатком денежных средств, необходимо  приложить усилия и обеспечить безбедную жизнь по достижению пенсионного возра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государственного софинансирования пенсии предоставляет возможность каждому гражданину РФ созда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ою пенсию самому при поддержке государ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Rectangle 1" descr=""/>
          <p:cNvPicPr/>
          <p:nvPr/>
        </p:nvPicPr>
        <p:blipFill>
          <a:blip r:embed="rId1"/>
          <a:stretch/>
        </p:blipFill>
        <p:spPr>
          <a:xfrm>
            <a:off x="-6480" y="-6480"/>
            <a:ext cx="8869320" cy="5273640"/>
          </a:xfrm>
          <a:prstGeom prst="rect">
            <a:avLst/>
          </a:prstGeom>
          <a:ln w="0">
            <a:noFill/>
          </a:ln>
        </p:spPr>
      </p:pic>
      <p:pic>
        <p:nvPicPr>
          <p:cNvPr id="504" name="Rectangle 2" descr=""/>
          <p:cNvPicPr/>
          <p:nvPr/>
        </p:nvPicPr>
        <p:blipFill>
          <a:blip r:embed="rId2"/>
          <a:stretch/>
        </p:blipFill>
        <p:spPr>
          <a:xfrm>
            <a:off x="-6480" y="-6480"/>
            <a:ext cx="9156960" cy="4322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26"/>
          <p:cNvSpPr/>
          <p:nvPr/>
        </p:nvSpPr>
        <p:spPr>
          <a:xfrm>
            <a:off x="1606680" y="4983120"/>
            <a:ext cx="7232400" cy="7038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иск информации в Интерне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27"/>
          <p:cNvSpPr/>
          <p:nvPr/>
        </p:nvSpPr>
        <p:spPr>
          <a:xfrm>
            <a:off x="2143080" y="4143240"/>
            <a:ext cx="6705720" cy="705960"/>
          </a:xfrm>
          <a:prstGeom prst="rect">
            <a:avLst/>
          </a:prstGeom>
          <a:gradFill rotWithShape="0">
            <a:gsLst>
              <a:gs pos="0">
                <a:srgbClr val="00d600"/>
              </a:gs>
              <a:gs pos="50000">
                <a:srgbClr val="ffffff"/>
              </a:gs>
              <a:gs pos="100000">
                <a:srgbClr val="00d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нсультации с учител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28"/>
          <p:cNvSpPr/>
          <p:nvPr/>
        </p:nvSpPr>
        <p:spPr>
          <a:xfrm>
            <a:off x="2637000" y="3660840"/>
            <a:ext cx="6202080" cy="368280"/>
          </a:xfrm>
          <a:prstGeom prst="rect">
            <a:avLst/>
          </a:prstGeom>
          <a:gradFill rotWithShape="0">
            <a:gsLst>
              <a:gs pos="0">
                <a:srgbClr val="66ffff"/>
              </a:gs>
              <a:gs pos="50000">
                <a:srgbClr val="ffffff"/>
              </a:gs>
              <a:gs pos="100000">
                <a:srgbClr val="66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онсультации с работниками бухгалтерии школ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29"/>
          <p:cNvSpPr/>
          <p:nvPr/>
        </p:nvSpPr>
        <p:spPr>
          <a:xfrm>
            <a:off x="3292560" y="3135240"/>
            <a:ext cx="5546520" cy="368280"/>
          </a:xfrm>
          <a:prstGeom prst="rect">
            <a:avLst/>
          </a:prstGeom>
          <a:gradFill rotWithShape="0">
            <a:gsLst>
              <a:gs pos="0">
                <a:srgbClr val="0099ff"/>
              </a:gs>
              <a:gs pos="50000">
                <a:srgbClr val="ffffff"/>
              </a:gs>
              <a:gs pos="100000">
                <a:srgbClr val="00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оциологический опро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30"/>
          <p:cNvSpPr/>
          <p:nvPr/>
        </p:nvSpPr>
        <p:spPr>
          <a:xfrm>
            <a:off x="3921120" y="2336760"/>
            <a:ext cx="5008680" cy="644400"/>
          </a:xfrm>
          <a:prstGeom prst="rect">
            <a:avLst/>
          </a:prstGeom>
          <a:gradFill rotWithShape="0">
            <a:gsLst>
              <a:gs pos="0">
                <a:srgbClr val="9900cc"/>
              </a:gs>
              <a:gs pos="50000">
                <a:srgbClr val="ffffff"/>
              </a:gs>
              <a:gs pos="100000">
                <a:srgbClr val="9900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Обработка  собранных материа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31"/>
          <p:cNvSpPr/>
          <p:nvPr/>
        </p:nvSpPr>
        <p:spPr>
          <a:xfrm>
            <a:off x="4492800" y="1538280"/>
            <a:ext cx="4346280" cy="705960"/>
          </a:xfrm>
          <a:prstGeom prst="rect">
            <a:avLst/>
          </a:prstGeom>
          <a:gradFill rotWithShape="0">
            <a:gsLst>
              <a:gs pos="0">
                <a:srgbClr val="ffabab"/>
              </a:gs>
              <a:gs pos="50000">
                <a:srgbClr val="ffffff"/>
              </a:gs>
              <a:gs pos="100000">
                <a:srgbClr val="ffaba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Оформление презен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32"/>
          <p:cNvSpPr/>
          <p:nvPr/>
        </p:nvSpPr>
        <p:spPr>
          <a:xfrm>
            <a:off x="5105520" y="714240"/>
            <a:ext cx="3609720" cy="801360"/>
          </a:xfrm>
          <a:prstGeom prst="rect">
            <a:avLst/>
          </a:prstGeom>
          <a:gradFill rotWithShape="0">
            <a:gsLst>
              <a:gs pos="0">
                <a:srgbClr val="ffd79d"/>
              </a:gs>
              <a:gs pos="50000">
                <a:srgbClr val="ffffff"/>
              </a:gs>
              <a:gs pos="100000">
                <a:srgbClr val="ffd79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Защита рабо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35"/>
          <p:cNvSpPr/>
          <p:nvPr/>
        </p:nvSpPr>
        <p:spPr>
          <a:xfrm>
            <a:off x="914400" y="5543640"/>
            <a:ext cx="7924680" cy="862560"/>
          </a:xfrm>
          <a:prstGeom prst="rect">
            <a:avLst/>
          </a:prstGeom>
          <a:gradFill rotWithShape="0">
            <a:gsLst>
              <a:gs pos="0">
                <a:srgbClr val="ff9900"/>
              </a:gs>
              <a:gs pos="50000">
                <a:srgbClr val="ffffff"/>
              </a:gs>
              <a:gs pos="100000">
                <a:srgbClr val="ff99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учение литературы по выбранной т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WordArt 38"/>
          <p:cNvSpPr txBox="1"/>
          <p:nvPr/>
        </p:nvSpPr>
        <p:spPr>
          <a:xfrm>
            <a:off x="428760" y="0"/>
            <a:ext cx="3581280" cy="2133720"/>
          </a:xfrm>
          <a:prstGeom prst="rect">
            <a:avLst/>
          </a:prstGeom>
        </p:spPr>
        <p:txBody>
          <a:bodyPr wrap="none" lIns="90000" rIns="90000" tIns="46800" bIns="46800" anchor="t">
            <a:prstTxWarp prst="textFadeRight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6600ff"/>
                  </a:outerShdw>
                </a:effectLst>
                <a:latin typeface="Impact"/>
              </a:rPr>
              <a:t>Этапы </a:t>
            </a:r>
            <a:endParaRPr b="0" lang="en-US" sz="24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6600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6600ff"/>
                  </a:outerShdw>
                </a:effectLst>
                <a:latin typeface="Impact"/>
              </a:rPr>
              <a:t>работы над проектом </a:t>
            </a:r>
            <a:endParaRPr b="0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6600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4" name="Line 39"/>
          <p:cNvSpPr/>
          <p:nvPr/>
        </p:nvSpPr>
        <p:spPr>
          <a:xfrm>
            <a:off x="179280" y="5950080"/>
            <a:ext cx="60984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40"/>
          <p:cNvSpPr/>
          <p:nvPr/>
        </p:nvSpPr>
        <p:spPr>
          <a:xfrm flipV="1">
            <a:off x="762120" y="5410080"/>
            <a:ext cx="0" cy="533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41"/>
          <p:cNvSpPr/>
          <p:nvPr/>
        </p:nvSpPr>
        <p:spPr>
          <a:xfrm>
            <a:off x="762120" y="5410080"/>
            <a:ext cx="76176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42"/>
          <p:cNvSpPr/>
          <p:nvPr/>
        </p:nvSpPr>
        <p:spPr>
          <a:xfrm flipV="1">
            <a:off x="1523880" y="4876560"/>
            <a:ext cx="0" cy="5331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43"/>
          <p:cNvSpPr/>
          <p:nvPr/>
        </p:nvSpPr>
        <p:spPr>
          <a:xfrm>
            <a:off x="1523880" y="4876920"/>
            <a:ext cx="4572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44"/>
          <p:cNvSpPr/>
          <p:nvPr/>
        </p:nvSpPr>
        <p:spPr>
          <a:xfrm flipV="1">
            <a:off x="1981080" y="411444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45"/>
          <p:cNvSpPr/>
          <p:nvPr/>
        </p:nvSpPr>
        <p:spPr>
          <a:xfrm>
            <a:off x="1981080" y="4114800"/>
            <a:ext cx="5335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46"/>
          <p:cNvSpPr/>
          <p:nvPr/>
        </p:nvSpPr>
        <p:spPr>
          <a:xfrm flipV="1">
            <a:off x="2514600" y="3581280"/>
            <a:ext cx="0" cy="5335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47"/>
          <p:cNvSpPr/>
          <p:nvPr/>
        </p:nvSpPr>
        <p:spPr>
          <a:xfrm>
            <a:off x="2514600" y="3581280"/>
            <a:ext cx="6094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48"/>
          <p:cNvSpPr/>
          <p:nvPr/>
        </p:nvSpPr>
        <p:spPr>
          <a:xfrm flipV="1">
            <a:off x="3124080" y="3047760"/>
            <a:ext cx="0" cy="5331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49"/>
          <p:cNvSpPr/>
          <p:nvPr/>
        </p:nvSpPr>
        <p:spPr>
          <a:xfrm>
            <a:off x="3124080" y="3048120"/>
            <a:ext cx="53352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50"/>
          <p:cNvSpPr/>
          <p:nvPr/>
        </p:nvSpPr>
        <p:spPr>
          <a:xfrm flipV="1">
            <a:off x="3657600" y="2209320"/>
            <a:ext cx="0" cy="83844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1"/>
          <p:cNvSpPr/>
          <p:nvPr/>
        </p:nvSpPr>
        <p:spPr>
          <a:xfrm>
            <a:off x="3657600" y="2209680"/>
            <a:ext cx="60948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52"/>
          <p:cNvSpPr/>
          <p:nvPr/>
        </p:nvSpPr>
        <p:spPr>
          <a:xfrm flipV="1">
            <a:off x="4267080" y="1371600"/>
            <a:ext cx="0" cy="8380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53"/>
          <p:cNvSpPr/>
          <p:nvPr/>
        </p:nvSpPr>
        <p:spPr>
          <a:xfrm>
            <a:off x="4267080" y="1371600"/>
            <a:ext cx="685800" cy="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54"/>
          <p:cNvSpPr/>
          <p:nvPr/>
        </p:nvSpPr>
        <p:spPr>
          <a:xfrm flipV="1">
            <a:off x="4952880" y="609120"/>
            <a:ext cx="0" cy="762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0" name="Group 116"/>
          <p:cNvGrpSpPr/>
          <p:nvPr/>
        </p:nvGrpSpPr>
        <p:grpSpPr>
          <a:xfrm>
            <a:off x="1372680" y="2133720"/>
            <a:ext cx="989640" cy="1598400"/>
            <a:chOff x="1372680" y="2133720"/>
            <a:chExt cx="989640" cy="1598400"/>
          </a:xfrm>
        </p:grpSpPr>
        <p:grpSp>
          <p:nvGrpSpPr>
            <p:cNvPr id="531" name="Group 102"/>
            <p:cNvGrpSpPr/>
            <p:nvPr/>
          </p:nvGrpSpPr>
          <p:grpSpPr>
            <a:xfrm>
              <a:off x="1372680" y="2133720"/>
              <a:ext cx="947160" cy="1598400"/>
              <a:chOff x="1372680" y="2133720"/>
              <a:chExt cx="947160" cy="1598400"/>
            </a:xfrm>
          </p:grpSpPr>
          <p:grpSp>
            <p:nvGrpSpPr>
              <p:cNvPr id="532" name="Group 60"/>
              <p:cNvGrpSpPr/>
              <p:nvPr/>
            </p:nvGrpSpPr>
            <p:grpSpPr>
              <a:xfrm>
                <a:off x="1587600" y="2361960"/>
                <a:ext cx="339840" cy="671040"/>
                <a:chOff x="1587600" y="2361960"/>
                <a:chExt cx="339840" cy="671040"/>
              </a:xfrm>
            </p:grpSpPr>
            <p:sp>
              <p:nvSpPr>
                <p:cNvPr id="533" name="Freeform 56"/>
                <p:cNvSpPr/>
                <p:nvPr/>
              </p:nvSpPr>
              <p:spPr>
                <a:xfrm flipH="1">
                  <a:off x="1587600" y="2361960"/>
                  <a:ext cx="339840" cy="671040"/>
                </a:xfrm>
                <a:prstGeom prst="pi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Freeform 57"/>
                <p:cNvSpPr/>
                <p:nvPr/>
              </p:nvSpPr>
              <p:spPr>
                <a:xfrm flipH="1">
                  <a:off x="1744560" y="2453040"/>
                  <a:ext cx="62280" cy="247680"/>
                </a:xfrm>
                <a:prstGeom prst="pie">
                  <a:avLst/>
                </a:prstGeom>
                <a:solidFill>
                  <a:srgbClr val="e00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58"/>
                <p:cNvSpPr/>
                <p:nvPr/>
              </p:nvSpPr>
              <p:spPr>
                <a:xfrm flipH="1">
                  <a:off x="1671840" y="2361960"/>
                  <a:ext cx="110880" cy="156240"/>
                </a:xfrm>
                <a:prstGeom prst="pi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59"/>
                <p:cNvSpPr/>
                <p:nvPr/>
              </p:nvSpPr>
              <p:spPr>
                <a:xfrm flipH="1">
                  <a:off x="1782720" y="2418840"/>
                  <a:ext cx="77760" cy="110880"/>
                </a:xfrm>
                <a:prstGeom prst="pi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7" name="Group 65"/>
              <p:cNvGrpSpPr/>
              <p:nvPr/>
            </p:nvGrpSpPr>
            <p:grpSpPr>
              <a:xfrm>
                <a:off x="1392840" y="2919600"/>
                <a:ext cx="637200" cy="812520"/>
                <a:chOff x="1392840" y="2919600"/>
                <a:chExt cx="637200" cy="812520"/>
              </a:xfrm>
            </p:grpSpPr>
            <p:grpSp>
              <p:nvGrpSpPr>
                <p:cNvPr id="538" name="Group 63"/>
                <p:cNvGrpSpPr/>
                <p:nvPr/>
              </p:nvGrpSpPr>
              <p:grpSpPr>
                <a:xfrm>
                  <a:off x="1392840" y="3613680"/>
                  <a:ext cx="637200" cy="118440"/>
                  <a:chOff x="1392840" y="3613680"/>
                  <a:chExt cx="637200" cy="118440"/>
                </a:xfrm>
              </p:grpSpPr>
              <p:sp>
                <p:nvSpPr>
                  <p:cNvPr id="539" name="Freeform 61"/>
                  <p:cNvSpPr/>
                  <p:nvPr/>
                </p:nvSpPr>
                <p:spPr>
                  <a:xfrm flipH="1">
                    <a:off x="1392480" y="3613680"/>
                    <a:ext cx="257400" cy="118440"/>
                  </a:xfrm>
                  <a:prstGeom prst="pie">
                    <a:avLst/>
                  </a:prstGeom>
                  <a:solidFill>
                    <a:srgbClr val="8040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Freeform 62"/>
                  <p:cNvSpPr/>
                  <p:nvPr/>
                </p:nvSpPr>
                <p:spPr>
                  <a:xfrm flipH="1">
                    <a:off x="1769400" y="3613680"/>
                    <a:ext cx="260640" cy="118440"/>
                  </a:xfrm>
                  <a:prstGeom prst="pie">
                    <a:avLst/>
                  </a:prstGeom>
                  <a:solidFill>
                    <a:srgbClr val="804000"/>
                  </a:solidFill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1" name="Freeform 64"/>
                <p:cNvSpPr/>
                <p:nvPr/>
              </p:nvSpPr>
              <p:spPr>
                <a:xfrm flipH="1">
                  <a:off x="1494720" y="2919600"/>
                  <a:ext cx="419400" cy="729720"/>
                </a:xfrm>
                <a:prstGeom prst="pie">
                  <a:avLst/>
                </a:prstGeom>
                <a:solidFill>
                  <a:srgbClr val="0000e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2" name="Group 80"/>
              <p:cNvGrpSpPr/>
              <p:nvPr/>
            </p:nvGrpSpPr>
            <p:grpSpPr>
              <a:xfrm>
                <a:off x="1372680" y="2360160"/>
                <a:ext cx="947160" cy="752040"/>
                <a:chOff x="1372680" y="2360160"/>
                <a:chExt cx="947160" cy="752040"/>
              </a:xfrm>
            </p:grpSpPr>
            <p:sp>
              <p:nvSpPr>
                <p:cNvPr id="543" name="Freeform 66"/>
                <p:cNvSpPr/>
                <p:nvPr/>
              </p:nvSpPr>
              <p:spPr>
                <a:xfrm flipH="1">
                  <a:off x="2185920" y="2650320"/>
                  <a:ext cx="133920" cy="161280"/>
                </a:xfrm>
                <a:prstGeom prst="pie">
                  <a:avLst/>
                </a:prstGeom>
                <a:solidFill>
                  <a:srgbClr val="ffe0c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4" name="Group 79"/>
                <p:cNvGrpSpPr/>
                <p:nvPr/>
              </p:nvGrpSpPr>
              <p:grpSpPr>
                <a:xfrm>
                  <a:off x="1372680" y="2360160"/>
                  <a:ext cx="867600" cy="752040"/>
                  <a:chOff x="1372680" y="2360160"/>
                  <a:chExt cx="867600" cy="752040"/>
                </a:xfrm>
              </p:grpSpPr>
              <p:grpSp>
                <p:nvGrpSpPr>
                  <p:cNvPr id="545" name="Group 70"/>
                  <p:cNvGrpSpPr/>
                  <p:nvPr/>
                </p:nvGrpSpPr>
                <p:grpSpPr>
                  <a:xfrm>
                    <a:off x="1372680" y="2360160"/>
                    <a:ext cx="867600" cy="752040"/>
                    <a:chOff x="1372680" y="2360160"/>
                    <a:chExt cx="867600" cy="752040"/>
                  </a:xfrm>
                </p:grpSpPr>
                <p:sp>
                  <p:nvSpPr>
                    <p:cNvPr id="546" name="Freeform 67"/>
                    <p:cNvSpPr/>
                    <p:nvPr/>
                  </p:nvSpPr>
                  <p:spPr>
                    <a:xfrm flipH="1">
                      <a:off x="1504440" y="2764080"/>
                      <a:ext cx="61920" cy="12852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Freeform 68"/>
                    <p:cNvSpPr/>
                    <p:nvPr/>
                  </p:nvSpPr>
                  <p:spPr>
                    <a:xfrm flipH="1">
                      <a:off x="2191320" y="2728080"/>
                      <a:ext cx="48600" cy="957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Freeform 69"/>
                    <p:cNvSpPr/>
                    <p:nvPr/>
                  </p:nvSpPr>
                  <p:spPr>
                    <a:xfrm flipH="1">
                      <a:off x="1372680" y="2360160"/>
                      <a:ext cx="857520" cy="752040"/>
                    </a:xfrm>
                    <a:prstGeom prst="pie">
                      <a:avLst/>
                    </a:prstGeom>
                    <a:solidFill>
                      <a:srgbClr val="0000f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9" name="Group 78"/>
                  <p:cNvGrpSpPr/>
                  <p:nvPr/>
                </p:nvGrpSpPr>
                <p:grpSpPr>
                  <a:xfrm>
                    <a:off x="1627920" y="2366640"/>
                    <a:ext cx="272520" cy="603720"/>
                    <a:chOff x="1627920" y="2366640"/>
                    <a:chExt cx="272520" cy="603720"/>
                  </a:xfrm>
                </p:grpSpPr>
                <p:grpSp>
                  <p:nvGrpSpPr>
                    <p:cNvPr id="550" name="Group 74"/>
                    <p:cNvGrpSpPr/>
                    <p:nvPr/>
                  </p:nvGrpSpPr>
                  <p:grpSpPr>
                    <a:xfrm>
                      <a:off x="1627920" y="2366640"/>
                      <a:ext cx="272520" cy="603720"/>
                      <a:chOff x="1627920" y="2366640"/>
                      <a:chExt cx="272520" cy="603720"/>
                    </a:xfrm>
                  </p:grpSpPr>
                  <p:sp>
                    <p:nvSpPr>
                      <p:cNvPr id="551" name="Freeform 71"/>
                      <p:cNvSpPr/>
                      <p:nvPr/>
                    </p:nvSpPr>
                    <p:spPr>
                      <a:xfrm flipH="1">
                        <a:off x="1772280" y="2431440"/>
                        <a:ext cx="127800" cy="288360"/>
                      </a:xfrm>
                      <a:prstGeom prst="pie">
                        <a:avLst/>
                      </a:pr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2" name="Freeform 72"/>
                      <p:cNvSpPr/>
                      <p:nvPr/>
                    </p:nvSpPr>
                    <p:spPr>
                      <a:xfrm flipH="1">
                        <a:off x="1627920" y="2366640"/>
                        <a:ext cx="144720" cy="349920"/>
                      </a:xfrm>
                      <a:prstGeom prst="pie">
                        <a:avLst/>
                      </a:pr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3" name="Freeform 73"/>
                      <p:cNvSpPr/>
                      <p:nvPr/>
                    </p:nvSpPr>
                    <p:spPr>
                      <a:xfrm flipH="1">
                        <a:off x="1756080" y="2701800"/>
                        <a:ext cx="19440" cy="268560"/>
                      </a:xfrm>
                      <a:prstGeom prst="pie">
                        <a:avLst/>
                      </a:prstGeom>
                      <a:noFill/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54" name="Group 77"/>
                    <p:cNvGrpSpPr/>
                    <p:nvPr/>
                  </p:nvGrpSpPr>
                  <p:grpSpPr>
                    <a:xfrm>
                      <a:off x="1768680" y="2745720"/>
                      <a:ext cx="34560" cy="159120"/>
                      <a:chOff x="1768680" y="2745720"/>
                      <a:chExt cx="34560" cy="159120"/>
                    </a:xfrm>
                  </p:grpSpPr>
                  <p:sp>
                    <p:nvSpPr>
                      <p:cNvPr id="555" name="Oval 75"/>
                      <p:cNvSpPr/>
                      <p:nvPr/>
                    </p:nvSpPr>
                    <p:spPr>
                      <a:xfrm flipH="1">
                        <a:off x="1778760" y="2745720"/>
                        <a:ext cx="24120" cy="2124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1320" bIns="-3132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56" name="Oval 76"/>
                      <p:cNvSpPr/>
                      <p:nvPr/>
                    </p:nvSpPr>
                    <p:spPr>
                      <a:xfrm flipH="1">
                        <a:off x="1768320" y="2885760"/>
                        <a:ext cx="22680" cy="19080"/>
                      </a:xfrm>
                      <a:prstGeom prst="ellipse">
                        <a:avLst/>
                      </a:prstGeom>
                      <a:solidFill>
                        <a:srgbClr val="000000"/>
                      </a:solidFill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557" name="Group 101"/>
              <p:cNvGrpSpPr/>
              <p:nvPr/>
            </p:nvGrpSpPr>
            <p:grpSpPr>
              <a:xfrm>
                <a:off x="1699200" y="2133720"/>
                <a:ext cx="254160" cy="353520"/>
                <a:chOff x="1699200" y="2133720"/>
                <a:chExt cx="254160" cy="353520"/>
              </a:xfrm>
            </p:grpSpPr>
            <p:sp>
              <p:nvSpPr>
                <p:cNvPr id="558" name="Freeform 81"/>
                <p:cNvSpPr/>
                <p:nvPr/>
              </p:nvSpPr>
              <p:spPr>
                <a:xfrm flipH="1">
                  <a:off x="1699200" y="2153160"/>
                  <a:ext cx="239040" cy="334080"/>
                </a:xfrm>
                <a:prstGeom prst="pie">
                  <a:avLst/>
                </a:prstGeom>
                <a:solidFill>
                  <a:srgbClr val="ffe0c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Freeform 82"/>
                <p:cNvSpPr/>
                <p:nvPr/>
              </p:nvSpPr>
              <p:spPr>
                <a:xfrm flipH="1">
                  <a:off x="1715760" y="2133720"/>
                  <a:ext cx="237600" cy="153360"/>
                </a:xfrm>
                <a:prstGeom prst="pie">
                  <a:avLst/>
                </a:prstGeom>
                <a:solidFill>
                  <a:srgbClr val="80400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0" name="Group 100"/>
                <p:cNvGrpSpPr/>
                <p:nvPr/>
              </p:nvGrpSpPr>
              <p:grpSpPr>
                <a:xfrm>
                  <a:off x="1713600" y="2257560"/>
                  <a:ext cx="204840" cy="185040"/>
                  <a:chOff x="1713600" y="2257560"/>
                  <a:chExt cx="204840" cy="185040"/>
                </a:xfrm>
              </p:grpSpPr>
              <p:grpSp>
                <p:nvGrpSpPr>
                  <p:cNvPr id="561" name="Group 85"/>
                  <p:cNvGrpSpPr/>
                  <p:nvPr/>
                </p:nvGrpSpPr>
                <p:grpSpPr>
                  <a:xfrm>
                    <a:off x="1819800" y="2257560"/>
                    <a:ext cx="98640" cy="61560"/>
                    <a:chOff x="1819800" y="2257560"/>
                    <a:chExt cx="98640" cy="61560"/>
                  </a:xfrm>
                </p:grpSpPr>
                <p:sp>
                  <p:nvSpPr>
                    <p:cNvPr id="562" name="Freeform 83"/>
                    <p:cNvSpPr/>
                    <p:nvPr/>
                  </p:nvSpPr>
                  <p:spPr>
                    <a:xfrm flipH="1">
                      <a:off x="1819800" y="2257560"/>
                      <a:ext cx="64080" cy="19440"/>
                    </a:xfrm>
                    <a:prstGeom prst="pie">
                      <a:avLst/>
                    </a:prstGeom>
                    <a:solidFill>
                      <a:srgbClr val="80400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7360" bIns="-273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3" name="Freeform 84"/>
                    <p:cNvSpPr/>
                    <p:nvPr/>
                  </p:nvSpPr>
                  <p:spPr>
                    <a:xfrm flipH="1">
                      <a:off x="1900440" y="2275560"/>
                      <a:ext cx="18000" cy="43560"/>
                    </a:xfrm>
                    <a:prstGeom prst="pie">
                      <a:avLst/>
                    </a:prstGeom>
                    <a:solidFill>
                      <a:srgbClr val="804000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4" name="Group 88"/>
                  <p:cNvGrpSpPr/>
                  <p:nvPr/>
                </p:nvGrpSpPr>
                <p:grpSpPr>
                  <a:xfrm>
                    <a:off x="1753200" y="2311200"/>
                    <a:ext cx="104760" cy="131400"/>
                    <a:chOff x="1753200" y="2311200"/>
                    <a:chExt cx="104760" cy="131400"/>
                  </a:xfrm>
                </p:grpSpPr>
                <p:sp>
                  <p:nvSpPr>
                    <p:cNvPr id="565" name="Freeform 86"/>
                    <p:cNvSpPr/>
                    <p:nvPr/>
                  </p:nvSpPr>
                  <p:spPr>
                    <a:xfrm flipH="1">
                      <a:off x="1762200" y="2312640"/>
                      <a:ext cx="95760" cy="129960"/>
                    </a:xfrm>
                    <a:prstGeom prst="pie">
                      <a:avLst/>
                    </a:prstGeom>
                    <a:solidFill>
                      <a:srgbClr val="ffffff"/>
                    </a:solidFill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6" name="Freeform 87"/>
                    <p:cNvSpPr/>
                    <p:nvPr/>
                  </p:nvSpPr>
                  <p:spPr>
                    <a:xfrm flipH="1">
                      <a:off x="1752840" y="2311200"/>
                      <a:ext cx="21240" cy="6480"/>
                    </a:xfrm>
                    <a:prstGeom prst="pie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7" name="Group 92"/>
                  <p:cNvGrpSpPr/>
                  <p:nvPr/>
                </p:nvGrpSpPr>
                <p:grpSpPr>
                  <a:xfrm>
                    <a:off x="1713600" y="2303280"/>
                    <a:ext cx="163800" cy="96840"/>
                    <a:chOff x="1713600" y="2303280"/>
                    <a:chExt cx="163800" cy="96840"/>
                  </a:xfrm>
                </p:grpSpPr>
                <p:sp>
                  <p:nvSpPr>
                    <p:cNvPr id="568" name="Freeform 89"/>
                    <p:cNvSpPr/>
                    <p:nvPr/>
                  </p:nvSpPr>
                  <p:spPr>
                    <a:xfrm flipH="1">
                      <a:off x="1859400" y="2377800"/>
                      <a:ext cx="18000" cy="12600"/>
                    </a:xfrm>
                    <a:prstGeom prst="pie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840" bIns="-33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9" name="Freeform 90"/>
                    <p:cNvSpPr/>
                    <p:nvPr/>
                  </p:nvSpPr>
                  <p:spPr>
                    <a:xfrm flipH="1">
                      <a:off x="1713600" y="2353680"/>
                      <a:ext cx="4320" cy="46440"/>
                    </a:xfrm>
                    <a:prstGeom prst="pie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0" name="Freeform 91"/>
                    <p:cNvSpPr/>
                    <p:nvPr/>
                  </p:nvSpPr>
                  <p:spPr>
                    <a:xfrm flipH="1">
                      <a:off x="1713240" y="2303280"/>
                      <a:ext cx="10440" cy="1440"/>
                    </a:xfrm>
                    <a:prstGeom prst="pie">
                      <a:avLst/>
                    </a:pr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1" name="Group 99"/>
                  <p:cNvGrpSpPr/>
                  <p:nvPr/>
                </p:nvGrpSpPr>
                <p:grpSpPr>
                  <a:xfrm>
                    <a:off x="1845720" y="2280240"/>
                    <a:ext cx="59040" cy="46440"/>
                    <a:chOff x="1845720" y="2280240"/>
                    <a:chExt cx="59040" cy="46440"/>
                  </a:xfrm>
                </p:grpSpPr>
                <p:grpSp>
                  <p:nvGrpSpPr>
                    <p:cNvPr id="572" name="Group 95"/>
                    <p:cNvGrpSpPr/>
                    <p:nvPr/>
                  </p:nvGrpSpPr>
                  <p:grpSpPr>
                    <a:xfrm>
                      <a:off x="1845720" y="2280240"/>
                      <a:ext cx="19800" cy="27000"/>
                      <a:chOff x="1845720" y="2280240"/>
                      <a:chExt cx="19800" cy="27000"/>
                    </a:xfrm>
                  </p:grpSpPr>
                  <p:sp>
                    <p:nvSpPr>
                      <p:cNvPr id="573" name="Freeform 93"/>
                      <p:cNvSpPr/>
                      <p:nvPr/>
                    </p:nvSpPr>
                    <p:spPr>
                      <a:xfrm flipH="1">
                        <a:off x="1845360" y="2280240"/>
                        <a:ext cx="19800" cy="2700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440" bIns="-1944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4" name="Freeform 94"/>
                      <p:cNvSpPr/>
                      <p:nvPr/>
                    </p:nvSpPr>
                    <p:spPr>
                      <a:xfrm flipH="1">
                        <a:off x="1853280" y="2283480"/>
                        <a:ext cx="4680" cy="648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9960" bIns="-3996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grpSp>
                  <p:nvGrpSpPr>
                    <p:cNvPr id="575" name="Group 98"/>
                    <p:cNvGrpSpPr/>
                    <p:nvPr/>
                  </p:nvGrpSpPr>
                  <p:grpSpPr>
                    <a:xfrm>
                      <a:off x="1885320" y="2302920"/>
                      <a:ext cx="19440" cy="23760"/>
                      <a:chOff x="1885320" y="2302920"/>
                      <a:chExt cx="19440" cy="23760"/>
                    </a:xfrm>
                  </p:grpSpPr>
                  <p:sp>
                    <p:nvSpPr>
                      <p:cNvPr id="576" name="Freeform 96"/>
                      <p:cNvSpPr/>
                      <p:nvPr/>
                    </p:nvSpPr>
                    <p:spPr>
                      <a:xfrm flipH="1">
                        <a:off x="1885320" y="2302920"/>
                        <a:ext cx="19440" cy="23760"/>
                      </a:xfrm>
                      <a:prstGeom prst="pie">
                        <a:avLst/>
                      </a:prstGeom>
                      <a:solidFill>
                        <a:srgbClr val="000000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2680" bIns="-2268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77" name="Freeform 97"/>
                      <p:cNvSpPr/>
                      <p:nvPr/>
                    </p:nvSpPr>
                    <p:spPr>
                      <a:xfrm flipH="1">
                        <a:off x="1891800" y="2306160"/>
                        <a:ext cx="5760" cy="6120"/>
                      </a:xfrm>
                      <a:prstGeom prst="pie">
                        <a:avLst/>
                      </a:prstGeom>
                      <a:solidFill>
                        <a:srgbClr val="ffffff"/>
                      </a:solidFill>
                      <a:ln w="324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320" bIns="-40320" anchor="t">
                        <a:noAutofit/>
                      </a:bodyPr>
                      <a:p>
                        <a:pPr>
                          <a:lnSpc>
                            <a:spcPct val="100000"/>
                          </a:lnSpc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0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</p:grpSp>
        <p:grpSp>
          <p:nvGrpSpPr>
            <p:cNvPr id="578" name="Group 115"/>
            <p:cNvGrpSpPr/>
            <p:nvPr/>
          </p:nvGrpSpPr>
          <p:grpSpPr>
            <a:xfrm>
              <a:off x="1505160" y="2486160"/>
              <a:ext cx="857160" cy="700560"/>
              <a:chOff x="1505160" y="2486160"/>
              <a:chExt cx="857160" cy="700560"/>
            </a:xfrm>
          </p:grpSpPr>
          <p:grpSp>
            <p:nvGrpSpPr>
              <p:cNvPr id="579" name="Group 108"/>
              <p:cNvGrpSpPr/>
              <p:nvPr/>
            </p:nvGrpSpPr>
            <p:grpSpPr>
              <a:xfrm>
                <a:off x="1505160" y="2486160"/>
                <a:ext cx="857160" cy="700560"/>
                <a:chOff x="1505160" y="2486160"/>
                <a:chExt cx="857160" cy="700560"/>
              </a:xfrm>
            </p:grpSpPr>
            <p:sp>
              <p:nvSpPr>
                <p:cNvPr id="580" name="Freeform 103"/>
                <p:cNvSpPr/>
                <p:nvPr/>
              </p:nvSpPr>
              <p:spPr>
                <a:xfrm flipH="1">
                  <a:off x="1928880" y="2486160"/>
                  <a:ext cx="329400" cy="700560"/>
                </a:xfrm>
                <a:prstGeom prst="pie">
                  <a:avLst/>
                </a:prstGeom>
                <a:solidFill>
                  <a:srgbClr val="c0c0c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Freeform 104"/>
                <p:cNvSpPr/>
                <p:nvPr/>
              </p:nvSpPr>
              <p:spPr>
                <a:xfrm flipH="1">
                  <a:off x="1928880" y="2508480"/>
                  <a:ext cx="392040" cy="678240"/>
                </a:xfrm>
                <a:prstGeom prst="pie">
                  <a:avLst/>
                </a:prstGeom>
                <a:solidFill>
                  <a:srgbClr val="e0e0e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105"/>
                <p:cNvSpPr/>
                <p:nvPr/>
              </p:nvSpPr>
              <p:spPr>
                <a:xfrm flipH="1">
                  <a:off x="1515600" y="2490840"/>
                  <a:ext cx="494280" cy="669600"/>
                </a:xfrm>
                <a:prstGeom prst="pie">
                  <a:avLst/>
                </a:prstGeom>
                <a:solidFill>
                  <a:srgbClr val="e0e0e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Freeform 106"/>
                <p:cNvSpPr/>
                <p:nvPr/>
              </p:nvSpPr>
              <p:spPr>
                <a:xfrm flipH="1">
                  <a:off x="1504800" y="2508480"/>
                  <a:ext cx="505080" cy="678240"/>
                </a:xfrm>
                <a:prstGeom prst="pie">
                  <a:avLst/>
                </a:prstGeom>
                <a:solidFill>
                  <a:srgbClr val="ffffff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Freeform 107"/>
                <p:cNvSpPr/>
                <p:nvPr/>
              </p:nvSpPr>
              <p:spPr>
                <a:xfrm flipH="1">
                  <a:off x="1928880" y="2539440"/>
                  <a:ext cx="433080" cy="647280"/>
                </a:xfrm>
                <a:prstGeom prst="pie">
                  <a:avLst/>
                </a:prstGeom>
                <a:solidFill>
                  <a:srgbClr val="e0e0e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5" name="Freeform 109"/>
              <p:cNvSpPr/>
              <p:nvPr/>
            </p:nvSpPr>
            <p:spPr>
              <a:xfrm flipH="1">
                <a:off x="1526760" y="2782440"/>
                <a:ext cx="146160" cy="171000"/>
              </a:xfrm>
              <a:prstGeom prst="pie">
                <a:avLst/>
              </a:prstGeom>
              <a:solidFill>
                <a:srgbClr val="ffe0c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86" name="Group 114"/>
              <p:cNvGrpSpPr/>
              <p:nvPr/>
            </p:nvGrpSpPr>
            <p:grpSpPr>
              <a:xfrm>
                <a:off x="2257920" y="2697840"/>
                <a:ext cx="84960" cy="115200"/>
                <a:chOff x="2257920" y="2697840"/>
                <a:chExt cx="84960" cy="115200"/>
              </a:xfrm>
            </p:grpSpPr>
            <p:sp>
              <p:nvSpPr>
                <p:cNvPr id="587" name="Freeform 110"/>
                <p:cNvSpPr/>
                <p:nvPr/>
              </p:nvSpPr>
              <p:spPr>
                <a:xfrm flipH="1">
                  <a:off x="2260440" y="2765880"/>
                  <a:ext cx="59400" cy="47160"/>
                </a:xfrm>
                <a:prstGeom prst="pie">
                  <a:avLst/>
                </a:prstGeom>
                <a:solidFill>
                  <a:srgbClr val="ffe0c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111"/>
                <p:cNvSpPr/>
                <p:nvPr/>
              </p:nvSpPr>
              <p:spPr>
                <a:xfrm flipH="1">
                  <a:off x="2257560" y="2736720"/>
                  <a:ext cx="74520" cy="63360"/>
                </a:xfrm>
                <a:prstGeom prst="pie">
                  <a:avLst/>
                </a:prstGeom>
                <a:solidFill>
                  <a:srgbClr val="ffe0c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112"/>
                <p:cNvSpPr/>
                <p:nvPr/>
              </p:nvSpPr>
              <p:spPr>
                <a:xfrm flipH="1">
                  <a:off x="2262240" y="2710440"/>
                  <a:ext cx="80640" cy="68040"/>
                </a:xfrm>
                <a:prstGeom prst="pie">
                  <a:avLst/>
                </a:prstGeom>
                <a:solidFill>
                  <a:srgbClr val="ffe0c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Freeform 113"/>
                <p:cNvSpPr/>
                <p:nvPr/>
              </p:nvSpPr>
              <p:spPr>
                <a:xfrm flipH="1">
                  <a:off x="2270160" y="2697840"/>
                  <a:ext cx="71280" cy="55080"/>
                </a:xfrm>
                <a:prstGeom prst="pie">
                  <a:avLst/>
                </a:prstGeom>
                <a:solidFill>
                  <a:srgbClr val="ffe0c0"/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spd="slow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7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3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9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47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500"/>
                            </p:stCondLst>
                            <p:childTnLst>
                              <p:par>
                                <p:cTn id="4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6000"/>
                            </p:stCondLst>
                            <p:childTnLst>
                              <p:par>
                                <p:cTn id="5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55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6500"/>
                            </p:stCondLst>
                            <p:childTnLst>
                              <p:par>
                                <p:cTn id="5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7000"/>
                            </p:stCondLst>
                            <p:childTnLst>
                              <p:par>
                                <p:cTn id="61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63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7500"/>
                            </p:stCondLst>
                            <p:childTnLst>
                              <p:par>
                                <p:cTn id="6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Box 2"/>
          <p:cNvSpPr/>
          <p:nvPr/>
        </p:nvSpPr>
        <p:spPr>
          <a:xfrm>
            <a:off x="785880" y="642960"/>
            <a:ext cx="7954920" cy="28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Начиная работу над проектом, я провела опрос нынешних пенсионер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Calibri"/>
              </a:rPr>
              <a:t>Вопросы анк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. Довольны ли Вы своей пенсией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. Хотели бы Вы увеличить размер своей пенси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казалос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Диаграмма 3" descr=""/>
          <p:cNvPicPr/>
          <p:nvPr/>
        </p:nvPicPr>
        <p:blipFill>
          <a:blip r:embed="rId1"/>
          <a:stretch/>
        </p:blipFill>
        <p:spPr>
          <a:xfrm>
            <a:off x="755640" y="2924280"/>
            <a:ext cx="7643880" cy="3674880"/>
          </a:xfrm>
          <a:prstGeom prst="rect">
            <a:avLst/>
          </a:prstGeom>
          <a:ln w="0">
            <a:noFill/>
          </a:ln>
        </p:spPr>
      </p:pic>
      <p:sp>
        <p:nvSpPr>
          <p:cNvPr id="593" name="Text Box 5"/>
          <p:cNvSpPr/>
          <p:nvPr/>
        </p:nvSpPr>
        <p:spPr>
          <a:xfrm>
            <a:off x="3276720" y="0"/>
            <a:ext cx="26636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7133a"/>
                </a:solidFill>
                <a:latin typeface="Arial"/>
              </a:rPr>
              <a:t>статис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Text Box 13"/>
          <p:cNvSpPr/>
          <p:nvPr/>
        </p:nvSpPr>
        <p:spPr>
          <a:xfrm>
            <a:off x="755640" y="981000"/>
            <a:ext cx="7257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езультат опроса показал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нсионеры не довольны своей пенс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нсионеры хотели бы увеличить размер своей пен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14"/>
          <p:cNvSpPr/>
          <p:nvPr/>
        </p:nvSpPr>
        <p:spPr>
          <a:xfrm>
            <a:off x="250920" y="2060640"/>
            <a:ext cx="87375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проведение опроса пенсионеры не только отвечал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поставленные вопросы, но и аргументировали 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сновной причиной не довольства пенсионеров получае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нсии оказалос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хватка получаемых денежных средств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на оплату услуг ЖК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на оплату продовольственных продуктов и продуктов пит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на улучшение жилищных услов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вязи с этим гражданам после достижения пенсионного возраста приходится продолжать трудовую деятель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16"/>
          <p:cNvSpPr/>
          <p:nvPr/>
        </p:nvSpPr>
        <p:spPr>
          <a:xfrm>
            <a:off x="179280" y="5516640"/>
            <a:ext cx="5113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вод: Программа государственног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финансирования пенс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еобходима гражданам Р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7" name="Picture 9" descr="182162-300x24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59640" y="4869000"/>
            <a:ext cx="2281320" cy="1828800"/>
          </a:xfrm>
          <a:prstGeom prst="rect">
            <a:avLst/>
          </a:prstGeom>
          <a:ln w="0">
            <a:noFill/>
          </a:ln>
        </p:spPr>
      </p:pic>
      <p:sp>
        <p:nvSpPr>
          <p:cNvPr id="598" name="Text Box 18"/>
          <p:cNvSpPr/>
          <p:nvPr/>
        </p:nvSpPr>
        <p:spPr>
          <a:xfrm>
            <a:off x="824400" y="189000"/>
            <a:ext cx="617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7133a"/>
                </a:solidFill>
                <a:latin typeface="Arial"/>
              </a:rPr>
              <a:t>Проблемы старшего поко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2" descr=""/>
          <p:cNvPicPr/>
          <p:nvPr/>
        </p:nvPicPr>
        <p:blipFill>
          <a:blip r:embed="rId1"/>
          <a:stretch/>
        </p:blipFill>
        <p:spPr>
          <a:xfrm>
            <a:off x="3162240" y="2075040"/>
            <a:ext cx="2819520" cy="2116080"/>
          </a:xfrm>
          <a:prstGeom prst="rect">
            <a:avLst/>
          </a:prstGeom>
          <a:ln w="0">
            <a:noFill/>
          </a:ln>
        </p:spPr>
      </p:pic>
      <p:sp>
        <p:nvSpPr>
          <p:cNvPr id="600" name="AutoShape 3"/>
          <p:cNvSpPr/>
          <p:nvPr/>
        </p:nvSpPr>
        <p:spPr>
          <a:xfrm>
            <a:off x="225360" y="4087800"/>
            <a:ext cx="4681440" cy="18608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2c4a6"/>
              </a:gs>
              <a:gs pos="50000">
                <a:srgbClr val="ffffff"/>
              </a:gs>
              <a:gs pos="100000">
                <a:srgbClr val="e2c4a6"/>
              </a:gs>
            </a:gsLst>
            <a:lin ang="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Calibri"/>
              </a:rPr>
              <a:t>При стандартном вариант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редний размер пенсии состави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т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587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рублей до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7334 руб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AutoShape 4"/>
          <p:cNvSpPr/>
          <p:nvPr/>
        </p:nvSpPr>
        <p:spPr>
          <a:xfrm>
            <a:off x="5002200" y="4145040"/>
            <a:ext cx="3852720" cy="179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2c4a6"/>
              </a:gs>
              <a:gs pos="50000">
                <a:srgbClr val="ffffff"/>
              </a:gs>
              <a:gs pos="100000">
                <a:srgbClr val="e2c4a6"/>
              </a:gs>
            </a:gsLst>
            <a:lin ang="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00000"/>
                </a:solidFill>
                <a:latin typeface="Calibri"/>
              </a:rPr>
              <a:t>При участие в накопительной </a:t>
            </a:r>
            <a:r>
              <a:rPr b="0" i="1" lang="ru-RU" sz="2000" spc="-1" strike="noStrike">
                <a:solidFill>
                  <a:srgbClr val="c00000"/>
                </a:solidFill>
                <a:latin typeface="Arial"/>
              </a:rPr>
              <a:t>П</a:t>
            </a:r>
            <a:r>
              <a:rPr b="0" i="1" lang="ru-RU" sz="2000" spc="-1" strike="noStrike">
                <a:solidFill>
                  <a:srgbClr val="c00000"/>
                </a:solidFill>
                <a:latin typeface="Calibri"/>
              </a:rPr>
              <a:t>рограм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азмер пенсии з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ависит от размеров отчислений,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деланных гражданином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AutoShape 5"/>
          <p:cNvSpPr/>
          <p:nvPr/>
        </p:nvSpPr>
        <p:spPr>
          <a:xfrm>
            <a:off x="990720" y="914400"/>
            <a:ext cx="1752480" cy="3505320"/>
          </a:xfrm>
          <a:custGeom>
            <a:avLst/>
            <a:gdLst>
              <a:gd name="textAreaLeft" fmla="*/ 234720 w 1752480"/>
              <a:gd name="textAreaRight" fmla="*/ 1517760 w 1752480"/>
              <a:gd name="textAreaTop" fmla="*/ 649800 h 3505320"/>
              <a:gd name="textAreaBottom" fmla="*/ 235872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010" stAng="-5400000" swAng="-5400000"/>
                <a:lnTo>
                  <a:pt x="0" y="10530"/>
                </a:lnTo>
                <a:arcTo wR="21600" hR="8010" stAng="10800000" swAng="-2781990"/>
                <a:lnTo>
                  <a:pt x="14400" y="21142"/>
                </a:lnTo>
                <a:lnTo>
                  <a:pt x="21600" y="17280"/>
                </a:lnTo>
                <a:lnTo>
                  <a:pt x="14400" y="12502"/>
                </a:lnTo>
                <a:lnTo>
                  <a:pt x="14400" y="15562"/>
                </a:lnTo>
                <a:arcTo wR="21600" hR="8010" stAng="8018010" swAng="2579163"/>
                <a:lnTo>
                  <a:pt x="269" y="9270"/>
                </a:lnTo>
                <a:arcTo wR="21600" hR="8010" stAng="-10597172" swAng="5197172"/>
                <a:close/>
              </a:path>
              <a:path fill="darkenLess" w="21600" h="21600">
                <a:moveTo>
                  <a:pt x="21600" y="0"/>
                </a:moveTo>
                <a:arcTo wR="21600" hR="8010" stAng="-5400000" swAng="-5400000"/>
                <a:lnTo>
                  <a:pt x="0" y="8010"/>
                </a:lnTo>
                <a:arcTo wR="21600" hR="8010" stAng="10800000" swAng="-202828"/>
                <a:lnTo>
                  <a:pt x="269" y="9270"/>
                </a:lnTo>
                <a:arcTo wR="21600" hR="8010" stAng="-10597172" swAng="5197172"/>
                <a:close/>
              </a:path>
            </a:pathLst>
          </a:custGeom>
          <a:gradFill rotWithShape="0">
            <a:gsLst>
              <a:gs pos="0">
                <a:srgbClr val="55261c"/>
              </a:gs>
              <a:gs pos="100000">
                <a:srgbClr val="55261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AutoShape 6"/>
          <p:cNvSpPr/>
          <p:nvPr/>
        </p:nvSpPr>
        <p:spPr>
          <a:xfrm flipH="1">
            <a:off x="6400800" y="838080"/>
            <a:ext cx="1752480" cy="3581640"/>
          </a:xfrm>
          <a:custGeom>
            <a:avLst/>
            <a:gdLst>
              <a:gd name="textAreaLeft" fmla="*/ 234720 w 1752480"/>
              <a:gd name="textAreaRight" fmla="*/ 1517760 w 1752480"/>
              <a:gd name="textAreaTop" fmla="*/ 694440 h 3581640"/>
              <a:gd name="textAreaBottom" fmla="*/ 2529000 h 358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76" stAng="-5400000" swAng="-5400000"/>
                <a:lnTo>
                  <a:pt x="0" y="11065"/>
                </a:lnTo>
                <a:arcTo wR="21600" hR="8376" stAng="10800000" swAng="-2858493"/>
                <a:lnTo>
                  <a:pt x="14400" y="21121"/>
                </a:lnTo>
                <a:lnTo>
                  <a:pt x="21600" y="18096"/>
                </a:lnTo>
                <a:lnTo>
                  <a:pt x="14400" y="14112"/>
                </a:lnTo>
                <a:lnTo>
                  <a:pt x="14400" y="16272"/>
                </a:lnTo>
                <a:arcTo wR="21600" hR="8376" stAng="7941507" swAng="2641984"/>
                <a:lnTo>
                  <a:pt x="280" y="9720"/>
                </a:lnTo>
                <a:arcTo wR="21600" hR="8376" stAng="-10583491" swAng="5183491"/>
                <a:close/>
              </a:path>
              <a:path fill="darkenLess" w="21600" h="21600">
                <a:moveTo>
                  <a:pt x="21600" y="0"/>
                </a:moveTo>
                <a:arcTo wR="21600" hR="8376" stAng="-5400000" swAng="-5400000"/>
                <a:lnTo>
                  <a:pt x="0" y="8376"/>
                </a:lnTo>
                <a:arcTo wR="21600" hR="8376" stAng="10800000" swAng="-216509"/>
                <a:lnTo>
                  <a:pt x="280" y="9720"/>
                </a:lnTo>
                <a:arcTo wR="21600" hR="8376" stAng="-10583491" swAng="5183491"/>
                <a:close/>
              </a:path>
            </a:pathLst>
          </a:custGeom>
          <a:gradFill rotWithShape="0">
            <a:gsLst>
              <a:gs pos="0">
                <a:srgbClr val="55261c"/>
              </a:gs>
              <a:gs pos="100000">
                <a:srgbClr val="55261c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7"/>
          <p:cNvSpPr/>
          <p:nvPr/>
        </p:nvSpPr>
        <p:spPr>
          <a:xfrm>
            <a:off x="2676600" y="541440"/>
            <a:ext cx="3790800" cy="509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2c4a6"/>
              </a:gs>
            </a:gsLst>
            <a:lin ang="5400000"/>
          </a:gradFill>
          <a:ln w="93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азмер пен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000"/>
                            </p:stCondLst>
                            <p:childTnLst>
                              <p:par>
                                <p:cTn id="83" nodeType="after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2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AutoShape 2"/>
          <p:cNvSpPr/>
          <p:nvPr/>
        </p:nvSpPr>
        <p:spPr>
          <a:xfrm>
            <a:off x="1542960" y="838080"/>
            <a:ext cx="6180120" cy="421920"/>
          </a:xfrm>
          <a:prstGeom prst="bracePair">
            <a:avLst>
              <a:gd name="adj" fmla="val 8333"/>
            </a:avLst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  <a:effectLst>
            <a:outerShdw dist="107932" dir="189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alibri"/>
              </a:rPr>
              <a:t>Варианты будущей пен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3"/>
          <p:cNvSpPr/>
          <p:nvPr/>
        </p:nvSpPr>
        <p:spPr>
          <a:xfrm>
            <a:off x="-181080" y="3213000"/>
            <a:ext cx="4824360" cy="2036520"/>
          </a:xfrm>
          <a:prstGeom prst="bracePair">
            <a:avLst>
              <a:gd name="adj" fmla="val 8333"/>
            </a:avLst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  <a:effectLst>
            <a:outerShdw dist="107932" dir="189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b7133a"/>
                </a:solidFill>
                <a:latin typeface="Calibri"/>
              </a:rPr>
              <a:t>Гражданин работает до 55 (60)</a:t>
            </a: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лет и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 получает пенсию в средн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размере 7334 рубл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4"/>
          <p:cNvSpPr/>
          <p:nvPr/>
        </p:nvSpPr>
        <p:spPr>
          <a:xfrm>
            <a:off x="4619520" y="3141720"/>
            <a:ext cx="4310280" cy="1938960"/>
          </a:xfrm>
          <a:prstGeom prst="bracePair">
            <a:avLst>
              <a:gd name="adj" fmla="val 8333"/>
            </a:avLst>
          </a:prstGeom>
          <a:solidFill>
            <a:srgbClr val="ffffff"/>
          </a:solidFill>
          <a:ln w="9360">
            <a:solidFill>
              <a:srgbClr val="663300"/>
            </a:solidFill>
            <a:miter/>
          </a:ln>
          <a:effectLst>
            <a:outerShdw dist="107932" dir="18900000" blurRad="0" rotWithShape="0">
              <a:srgbClr val="ffff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b7133a"/>
                </a:solidFill>
                <a:latin typeface="Calibri"/>
              </a:rPr>
              <a:t>Гражданин участвует в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0000"/>
                </a:solidFill>
                <a:latin typeface="Calibri"/>
              </a:rPr>
              <a:t>Программе государственного софинансирования пенсии</a:t>
            </a:r>
            <a:r>
              <a:rPr b="0" i="1" lang="ru-RU" sz="2000" spc="-1" strike="noStrike">
                <a:solidFill>
                  <a:srgbClr val="ff0000"/>
                </a:solidFill>
                <a:latin typeface="Arial"/>
              </a:rPr>
              <a:t> 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формирует накопительную часть трудовой пенси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8" name="Group 5"/>
          <p:cNvGrpSpPr/>
          <p:nvPr/>
        </p:nvGrpSpPr>
        <p:grpSpPr>
          <a:xfrm>
            <a:off x="5897520" y="1549080"/>
            <a:ext cx="2696400" cy="1811160"/>
            <a:chOff x="5897520" y="1549080"/>
            <a:chExt cx="2696400" cy="1811160"/>
          </a:xfrm>
        </p:grpSpPr>
        <p:sp>
          <p:nvSpPr>
            <p:cNvPr id="609" name="Freeform 6"/>
            <p:cNvSpPr/>
            <p:nvPr/>
          </p:nvSpPr>
          <p:spPr>
            <a:xfrm rot="209400">
              <a:off x="5954040" y="1599120"/>
              <a:ext cx="1511280" cy="108756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bbffbb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7"/>
            <p:cNvSpPr/>
            <p:nvPr/>
          </p:nvSpPr>
          <p:spPr>
            <a:xfrm rot="209400">
              <a:off x="7734600" y="2559960"/>
              <a:ext cx="782640" cy="77724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bbffbb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8"/>
            <p:cNvSpPr/>
            <p:nvPr/>
          </p:nvSpPr>
          <p:spPr>
            <a:xfrm rot="209400">
              <a:off x="6788880" y="2798640"/>
              <a:ext cx="935280" cy="48384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bbffbb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9"/>
            <p:cNvSpPr/>
            <p:nvPr/>
          </p:nvSpPr>
          <p:spPr>
            <a:xfrm rot="209400">
              <a:off x="5939640" y="1626840"/>
              <a:ext cx="2611440" cy="147456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bbffbb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3" name="Rectangle 10"/>
          <p:cNvSpPr/>
          <p:nvPr/>
        </p:nvSpPr>
        <p:spPr>
          <a:xfrm>
            <a:off x="4173480" y="1557360"/>
            <a:ext cx="497052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Участие в накопительной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рограмм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4" name="Group 11"/>
          <p:cNvGrpSpPr/>
          <p:nvPr/>
        </p:nvGrpSpPr>
        <p:grpSpPr>
          <a:xfrm>
            <a:off x="425880" y="1766520"/>
            <a:ext cx="2685960" cy="1622880"/>
            <a:chOff x="425880" y="1766520"/>
            <a:chExt cx="2685960" cy="1622880"/>
          </a:xfrm>
        </p:grpSpPr>
        <p:sp>
          <p:nvSpPr>
            <p:cNvPr id="615" name="Freeform 12"/>
            <p:cNvSpPr/>
            <p:nvPr/>
          </p:nvSpPr>
          <p:spPr>
            <a:xfrm flipH="1" rot="21390600">
              <a:off x="1550880" y="1816200"/>
              <a:ext cx="1511280" cy="96372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bbffbb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13"/>
            <p:cNvSpPr/>
            <p:nvPr/>
          </p:nvSpPr>
          <p:spPr>
            <a:xfrm flipH="1" rot="21390600">
              <a:off x="493200" y="2677320"/>
              <a:ext cx="782640" cy="68904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bbffbb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14"/>
            <p:cNvSpPr/>
            <p:nvPr/>
          </p:nvSpPr>
          <p:spPr>
            <a:xfrm flipH="1" rot="21390600">
              <a:off x="1285560" y="2882880"/>
              <a:ext cx="935280" cy="42876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bbffbb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15"/>
            <p:cNvSpPr/>
            <p:nvPr/>
          </p:nvSpPr>
          <p:spPr>
            <a:xfrm flipH="1" rot="21390600">
              <a:off x="462240" y="1844640"/>
              <a:ext cx="2611440" cy="1306440"/>
            </a:xfrm>
            <a:prstGeom prst="pie">
              <a:avLst/>
            </a:prstGeom>
            <a:gradFill rotWithShape="0">
              <a:gsLst>
                <a:gs pos="0">
                  <a:srgbClr val="ff0000"/>
                </a:gs>
                <a:gs pos="50000">
                  <a:srgbClr val="bbffbb"/>
                </a:gs>
                <a:gs pos="100000">
                  <a:srgbClr val="ff0000"/>
                </a:gs>
              </a:gsLst>
              <a:lin ang="5400000"/>
            </a:gradFill>
            <a:ln w="9360">
              <a:solidFill>
                <a:srgbClr val="66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Rectangle 16"/>
          <p:cNvSpPr/>
          <p:nvPr/>
        </p:nvSpPr>
        <p:spPr>
          <a:xfrm>
            <a:off x="0" y="1557360"/>
            <a:ext cx="4071960" cy="398880"/>
          </a:xfrm>
          <a:prstGeom prst="rect">
            <a:avLst/>
          </a:prstGeom>
          <a:solidFill>
            <a:srgbClr val="ffff99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Стандарт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9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3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000"/>
                            </p:stCondLst>
                            <p:childTnLst>
                              <p:par>
                                <p:cTn id="12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7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132" descr="C:\Program Files\Microsoft Office\Clipart\homeanim\AG00315_.GIF"/>
          <p:cNvPicPr/>
          <p:nvPr/>
        </p:nvPicPr>
        <p:blipFill>
          <a:blip r:embed="rId1"/>
          <a:stretch/>
        </p:blipFill>
        <p:spPr>
          <a:xfrm>
            <a:off x="642960" y="3857760"/>
            <a:ext cx="1773360" cy="2000160"/>
          </a:xfrm>
          <a:prstGeom prst="rect">
            <a:avLst/>
          </a:prstGeom>
          <a:ln w="0">
            <a:noFill/>
          </a:ln>
        </p:spPr>
      </p:pic>
      <p:sp>
        <p:nvSpPr>
          <p:cNvPr id="621" name="Овальная выноска 5"/>
          <p:cNvSpPr/>
          <p:nvPr/>
        </p:nvSpPr>
        <p:spPr>
          <a:xfrm>
            <a:off x="1071720" y="1357200"/>
            <a:ext cx="2428560" cy="18576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dce6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Calibri"/>
              </a:rPr>
              <a:t>Кто может стать </a:t>
            </a: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участником Программ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Скругленная прямоугольная выноска 11"/>
          <p:cNvSpPr/>
          <p:nvPr/>
        </p:nvSpPr>
        <p:spPr>
          <a:xfrm rot="16200000">
            <a:off x="4714920" y="1356840"/>
            <a:ext cx="1857240" cy="2714760"/>
          </a:xfrm>
          <a:prstGeom prst="wedgeRoundRectCallout">
            <a:avLst>
              <a:gd name="adj1" fmla="val -20833"/>
              <a:gd name="adj2" fmla="val 62500"/>
              <a:gd name="adj3" fmla="val 1666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се граждане Росси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b7133a"/>
                </a:solidFill>
                <a:latin typeface="Calibri"/>
              </a:rPr>
              <a:t>начиная с возраста 14-ти л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406" descr="E:\CORPBAS\J0079114.WMF"/>
          <p:cNvPicPr/>
          <p:nvPr/>
        </p:nvPicPr>
        <p:blipFill>
          <a:blip r:embed="rId2"/>
          <a:stretch/>
        </p:blipFill>
        <p:spPr>
          <a:xfrm flipH="1">
            <a:off x="6786360" y="2643120"/>
            <a:ext cx="1785960" cy="3257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Picture 756" descr="E:\CORPBAS\J0079061.WMF"/>
          <p:cNvPicPr/>
          <p:nvPr/>
        </p:nvPicPr>
        <p:blipFill>
          <a:blip r:embed="rId1"/>
          <a:stretch/>
        </p:blipFill>
        <p:spPr>
          <a:xfrm>
            <a:off x="755640" y="2421000"/>
            <a:ext cx="2117880" cy="1571400"/>
          </a:xfrm>
          <a:prstGeom prst="rect">
            <a:avLst/>
          </a:prstGeom>
          <a:ln w="0">
            <a:noFill/>
          </a:ln>
        </p:spPr>
      </p:pic>
      <p:sp>
        <p:nvSpPr>
          <p:cNvPr id="625" name="TextBox 2"/>
          <p:cNvSpPr/>
          <p:nvPr/>
        </p:nvSpPr>
        <p:spPr>
          <a:xfrm>
            <a:off x="3203640" y="620640"/>
            <a:ext cx="57211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ть полис обязательного пенсионного страхов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аспорт гражданина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Подать заявление в Пенсионный фонд РФ по месту жительст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Rectangle 130"/>
          <p:cNvSpPr/>
          <p:nvPr/>
        </p:nvSpPr>
        <p:spPr>
          <a:xfrm>
            <a:off x="-4587840" y="3782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167"/>
          <p:cNvSpPr/>
          <p:nvPr/>
        </p:nvSpPr>
        <p:spPr>
          <a:xfrm>
            <a:off x="-4587840" y="630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183"/>
          <p:cNvSpPr/>
          <p:nvPr/>
        </p:nvSpPr>
        <p:spPr>
          <a:xfrm>
            <a:off x="-4586400" y="7639560"/>
            <a:ext cx="180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88"/>
          <p:cNvSpPr/>
          <p:nvPr/>
        </p:nvSpPr>
        <p:spPr>
          <a:xfrm>
            <a:off x="471960" y="476280"/>
            <a:ext cx="84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b7133a"/>
                </a:solidFill>
                <a:latin typeface="Times New Roman"/>
              </a:rPr>
              <a:t>Для того чтобы стать участником Программы необходим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Тамара Петровна</cp:lastModifiedBy>
  <dcterms:modified xsi:type="dcterms:W3CDTF">2012-01-31T10:11:41Z</dcterms:modified>
  <cp:revision>37</cp:revision>
  <dc:subject/>
  <dc:title>социальный проект</dc:title>
</cp:coreProperties>
</file>